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762-0932-4B0B-AEF3-2F9F0314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ED9-424B-4C83-A133-35EB54E9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FCBF-361D-4773-A608-E9067F85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ED2-6315-4A75-B468-4B3BFB91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75B-120E-4381-8342-AAF0A8D0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468-8414-4013-87AF-B676BA6D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E00-0FA4-44D9-82E9-02D7FD23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68DE-381F-4187-B524-6767B369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75FF-4AD1-4D12-B2F7-4CA45F44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82A9-94AE-4711-B77C-40EC48D9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B50-C782-4242-8229-49E0D808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E15E-752E-413A-9AB0-F350852E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E670-3E90-41AC-8549-418991804D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7360" y="275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grammabilit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657600" y="3047760"/>
            <a:ext cx="2819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C+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4952880"/>
            <a:ext cx="0" cy="4114800"/>
          </a:xfrm>
          <a:prstGeom prst="line">
            <a:avLst/>
          </a:prstGeom>
          <a:ln w="507960">
            <a:solidFill>
              <a:srgbClr val="0000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62920" y="4952880"/>
            <a:ext cx="3200400" cy="3124440"/>
          </a:xfrm>
          <a:prstGeom prst="line">
            <a:avLst/>
          </a:prstGeom>
          <a:ln w="507960">
            <a:solidFill>
              <a:srgbClr val="0000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092840"/>
            <a:ext cx="4572000" cy="2904120"/>
          </a:xfrm>
          <a:prstGeom prst="wedgeEllipseCallout">
            <a:avLst>
              <a:gd name="adj1" fmla="val 32740"/>
              <a:gd name="adj2" fmla="val -50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 - Oriented Programming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38B-721D-40BD-98BC-BEFB6E6C4A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Array.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7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6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late &lt;class T = i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mplate&lt;class RH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ray &amp;operator=(const Expression&lt;RHS&gt; &amp;r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(long i=0; i&lt;this-&gt;size; i++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[i] = forEach(rhs, EvalLeaf1(i), OpCombine(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urn *this;     //equivalent to: a.d[i] = b.d[i]+c.d[i]+d.d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* 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ctor &lt;int&gt; sha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BD27-FFB4-4EED-A9C6-8C5DEBE786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Array.h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3671280"/>
            <a:ext cx="7086600" cy="2904120"/>
          </a:xfrm>
          <a:prstGeom prst="wedgeEllipseCallout">
            <a:avLst>
              <a:gd name="adj1" fmla="val 175"/>
              <a:gd name="adj2" fmla="val -733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 – dimensional cap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 required for processor / memory mapping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1503720"/>
            <a:ext cx="3657600" cy="2211480"/>
          </a:xfrm>
          <a:prstGeom prst="wedgeEllipseCallout">
            <a:avLst>
              <a:gd name="adj1" fmla="val -37722"/>
              <a:gd name="adj2" fmla="val -51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i-Calculus platfor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1351440"/>
            <a:ext cx="3505320" cy="2211480"/>
          </a:xfrm>
          <a:prstGeom prst="wedgeEllipseCallout">
            <a:avLst>
              <a:gd name="adj1" fmla="val 48949"/>
              <a:gd name="adj2" fmla="val -478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grates with &lt;PET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C144-EFF7-4005-B10C-2C8B62DFF2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228600" y="1544760"/>
          <a:ext cx="8763120" cy="508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4760"/>
                    <a:ext cx="876312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Array.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97000" y="1766880"/>
            <a:ext cx="7543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ults     :     Comparable to Hand Code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F0F-DEAB-4448-8F30-746B7FA861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6FD-B045-4661-AB79-3B34117D3E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0326-5435-4C65-9CB1-3CB976A9B1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410080" y="3352680"/>
            <a:ext cx="3581640" cy="3429000"/>
          </a:xfrm>
          <a:prstGeom prst="wedgeEllipseCallout">
            <a:avLst>
              <a:gd name="adj1" fmla="val -73759"/>
              <a:gd name="adj2" fmla="val -32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-1219320"/>
            <a:ext cx="0" cy="4114800"/>
          </a:xfrm>
          <a:prstGeom prst="line">
            <a:avLst/>
          </a:prstGeom>
          <a:ln w="507960">
            <a:solidFill>
              <a:srgbClr val="0000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Mechaniza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2895480"/>
            <a:ext cx="4114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&lt;PETE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4952880"/>
            <a:ext cx="0" cy="4114800"/>
          </a:xfrm>
          <a:prstGeom prst="line">
            <a:avLst/>
          </a:prstGeom>
          <a:ln w="507960">
            <a:solidFill>
              <a:srgbClr val="0000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747600"/>
            <a:ext cx="3117960" cy="2904120"/>
          </a:xfrm>
          <a:prstGeom prst="wedgeEllipseCallout">
            <a:avLst>
              <a:gd name="adj1" fmla="val 57166"/>
              <a:gd name="adj2" fmla="val -490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r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ression Template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019920" y="3505320"/>
            <a:ext cx="2396520" cy="2725200"/>
            <a:chOff x="6019920" y="3505320"/>
            <a:chExt cx="2396520" cy="2725200"/>
          </a:xfrm>
        </p:grpSpPr>
        <p:sp>
          <p:nvSpPr>
            <p:cNvPr id="55" name=""/>
            <p:cNvSpPr/>
            <p:nvPr/>
          </p:nvSpPr>
          <p:spPr>
            <a:xfrm>
              <a:off x="7724520" y="3898800"/>
              <a:ext cx="458640" cy="7138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247800" y="5092560"/>
              <a:ext cx="493560" cy="71244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6983280" y="3898800"/>
              <a:ext cx="529920" cy="779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59600" y="5092560"/>
              <a:ext cx="458280" cy="712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8035920" y="4689360"/>
              <a:ext cx="380520" cy="3423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C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7414920" y="3505320"/>
              <a:ext cx="3808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+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6694200" y="4700520"/>
              <a:ext cx="380880" cy="3423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+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6019920" y="5887800"/>
              <a:ext cx="3808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7343640" y="5887800"/>
              <a:ext cx="38052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127-79CD-496B-B4EF-ED1E1B91BB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2895480"/>
            <a:ext cx="5333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Psi - Calcu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952880"/>
            <a:ext cx="3200400" cy="3124440"/>
          </a:xfrm>
          <a:prstGeom prst="line">
            <a:avLst/>
          </a:prstGeom>
          <a:ln w="507960">
            <a:solidFill>
              <a:srgbClr val="0000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685800" y="-668160"/>
            <a:ext cx="3200400" cy="3124080"/>
          </a:xfrm>
          <a:prstGeom prst="line">
            <a:avLst/>
          </a:prstGeom>
          <a:ln w="507960">
            <a:solidFill>
              <a:srgbClr val="0000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4952880"/>
            <a:ext cx="0" cy="4114800"/>
          </a:xfrm>
          <a:prstGeom prst="line">
            <a:avLst/>
          </a:prstGeom>
          <a:ln w="507960">
            <a:solidFill>
              <a:srgbClr val="0000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859280"/>
            <a:ext cx="4038480" cy="1518840"/>
          </a:xfrm>
          <a:prstGeom prst="wedgeEllipseCallout">
            <a:avLst>
              <a:gd name="adj1" fmla="val 16662"/>
              <a:gd name="adj2" fmla="val -751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neralized Array Index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633240"/>
            <a:ext cx="4038480" cy="1518120"/>
          </a:xfrm>
          <a:prstGeom prst="wedgeEllipseCallout">
            <a:avLst>
              <a:gd name="adj1" fmla="val -35189"/>
              <a:gd name="adj2" fmla="val 74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uction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96B9-D129-416C-B864-BD49813D04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EAF-59EE-4FB9-945E-AC3110DED0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343400" y="-1219320"/>
            <a:ext cx="0" cy="4114800"/>
          </a:xfrm>
          <a:prstGeom prst="line">
            <a:avLst/>
          </a:prstGeom>
          <a:ln w="507960">
            <a:solidFill>
              <a:srgbClr val="0000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erforma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2880" y="2757600"/>
            <a:ext cx="517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Efficient Loop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4362840"/>
            <a:ext cx="3886200" cy="2211480"/>
          </a:xfrm>
          <a:prstGeom prst="wedgeEllipseCallout">
            <a:avLst>
              <a:gd name="adj1" fmla="val 31490"/>
              <a:gd name="adj2" fmla="val -70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ile Time Loop 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97F4-5FFF-4F29-8606-15F62EA379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8954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Processor &amp; Memor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Mapp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-1219320"/>
            <a:ext cx="0" cy="4114800"/>
          </a:xfrm>
          <a:prstGeom prst="line">
            <a:avLst/>
          </a:prstGeom>
          <a:ln w="507960">
            <a:solidFill>
              <a:srgbClr val="0000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46240" y="685800"/>
            <a:ext cx="8939160" cy="5943600"/>
            <a:chOff x="246240" y="685800"/>
            <a:chExt cx="8939160" cy="5943600"/>
          </a:xfrm>
        </p:grpSpPr>
        <p:sp>
          <p:nvSpPr>
            <p:cNvPr id="80" name=""/>
            <p:cNvSpPr/>
            <p:nvPr/>
          </p:nvSpPr>
          <p:spPr>
            <a:xfrm>
              <a:off x="7826400" y="1828800"/>
              <a:ext cx="131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or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250920" y="838080"/>
              <a:ext cx="2305440" cy="575280"/>
              <a:chOff x="250920" y="838080"/>
              <a:chExt cx="2305440" cy="575280"/>
            </a:xfrm>
          </p:grpSpPr>
          <p:sp>
            <p:nvSpPr>
              <p:cNvPr id="82" name=""/>
              <p:cNvSpPr/>
              <p:nvPr/>
            </p:nvSpPr>
            <p:spPr>
              <a:xfrm>
                <a:off x="250920" y="95364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Σ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9640" y="1102680"/>
                <a:ext cx="66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I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57360" y="1041480"/>
                <a:ext cx="628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08760" y="847800"/>
                <a:ext cx="7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(</a:t>
                </a:r>
                <a:r>
                  <a: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T  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H 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) 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6760" y="8679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415880" y="943920"/>
                <a:ext cx="50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Σ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704960" y="1094040"/>
                <a:ext cx="66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I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773720" y="838080"/>
                <a:ext cx="7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T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) 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62080" y="85824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915840" y="2066760"/>
              <a:ext cx="87480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74800" y="2116080"/>
              <a:ext cx="178776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36880" y="2203560"/>
              <a:ext cx="12682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36880" y="2800440"/>
              <a:ext cx="126828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6880" y="727200"/>
              <a:ext cx="178776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44800" y="1459080"/>
              <a:ext cx="12668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4280" y="852480"/>
              <a:ext cx="126828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54240" y="1776240"/>
              <a:ext cx="10080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8640" y="930240"/>
              <a:ext cx="10080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62160" y="1550880"/>
              <a:ext cx="10065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63960" y="1136520"/>
              <a:ext cx="10080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48040" y="1459080"/>
              <a:ext cx="1241280" cy="509400"/>
            </a:xfrm>
            <a:prstGeom prst="bracketPair">
              <a:avLst>
                <a:gd name="adj" fmla="val 1712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00360" y="755640"/>
              <a:ext cx="1736640" cy="2637000"/>
            </a:xfrm>
            <a:prstGeom prst="bracketPair">
              <a:avLst>
                <a:gd name="adj" fmla="val 1818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8040" y="861840"/>
              <a:ext cx="1241280" cy="509760"/>
            </a:xfrm>
            <a:prstGeom prst="bracketPair">
              <a:avLst>
                <a:gd name="adj" fmla="val 1712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48040" y="2803680"/>
              <a:ext cx="1241280" cy="507960"/>
            </a:xfrm>
            <a:prstGeom prst="bracketPair">
              <a:avLst>
                <a:gd name="adj" fmla="val 1712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69920" y="1039680"/>
              <a:ext cx="129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 12  11 10 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69920" y="817560"/>
              <a:ext cx="129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 15  14 13 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69920" y="1452600"/>
              <a:ext cx="129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 15  14 13 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72080" y="1674720"/>
              <a:ext cx="129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 12  11 10 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65400" y="2917800"/>
              <a:ext cx="10080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57480" y="2082960"/>
              <a:ext cx="1008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57480" y="3124080"/>
              <a:ext cx="10080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72080" y="2798640"/>
              <a:ext cx="129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15  14  13 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72080" y="3021120"/>
              <a:ext cx="129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12  11  10 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22880" y="2076480"/>
              <a:ext cx="178920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2162160"/>
              <a:ext cx="1266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86400" y="2759040"/>
              <a:ext cx="1266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16400" y="685800"/>
              <a:ext cx="178776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94320" y="1417680"/>
              <a:ext cx="1266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3800" y="811080"/>
              <a:ext cx="1266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03760" y="1735200"/>
              <a:ext cx="10065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18160" y="888840"/>
              <a:ext cx="10065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10240" y="1509840"/>
              <a:ext cx="1008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11680" y="1095480"/>
              <a:ext cx="1008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97560" y="1417680"/>
              <a:ext cx="1241280" cy="509400"/>
            </a:xfrm>
            <a:prstGeom prst="bracketPair">
              <a:avLst>
                <a:gd name="adj" fmla="val 1712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48440" y="714240"/>
              <a:ext cx="1736640" cy="2637000"/>
            </a:xfrm>
            <a:prstGeom prst="bracketPair">
              <a:avLst>
                <a:gd name="adj" fmla="val 1818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97560" y="822240"/>
              <a:ext cx="1241280" cy="507960"/>
            </a:xfrm>
            <a:prstGeom prst="bracketPair">
              <a:avLst>
                <a:gd name="adj" fmla="val 1712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97560" y="2762280"/>
              <a:ext cx="1241280" cy="509400"/>
            </a:xfrm>
            <a:prstGeom prst="bracketPair">
              <a:avLst>
                <a:gd name="adj" fmla="val 1712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9800" y="998640"/>
              <a:ext cx="125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 0    0   1  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19800" y="776160"/>
              <a:ext cx="125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 0    0   0  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8000" y="1411200"/>
              <a:ext cx="128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 0    0    0 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23040" y="1633680"/>
              <a:ext cx="125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 0    1    2 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14920" y="2876400"/>
              <a:ext cx="10065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07000" y="2041560"/>
              <a:ext cx="1008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07000" y="3083040"/>
              <a:ext cx="1008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23040" y="2757600"/>
              <a:ext cx="125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 1    2   3  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23040" y="2979720"/>
              <a:ext cx="125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 4    5   6  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76760" y="1917720"/>
              <a:ext cx="32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75520" y="2014560"/>
              <a:ext cx="61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75520" y="1924200"/>
              <a:ext cx="0" cy="18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35280" y="5307120"/>
              <a:ext cx="178740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97360" y="5392800"/>
              <a:ext cx="126828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97360" y="5991120"/>
              <a:ext cx="126828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27360" y="3916440"/>
              <a:ext cx="178740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05280" y="4648320"/>
              <a:ext cx="12668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84400" y="4041720"/>
              <a:ext cx="12686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14720" y="4965840"/>
              <a:ext cx="1008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9120" y="4119480"/>
              <a:ext cx="10080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22640" y="4740120"/>
              <a:ext cx="10065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24080" y="4325760"/>
              <a:ext cx="1008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08160" y="4648320"/>
              <a:ext cx="1241640" cy="509400"/>
            </a:xfrm>
            <a:prstGeom prst="bracketPair">
              <a:avLst>
                <a:gd name="adj" fmla="val 1712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60840" y="3944880"/>
              <a:ext cx="1736640" cy="2637000"/>
            </a:xfrm>
            <a:prstGeom prst="bracketPair">
              <a:avLst>
                <a:gd name="adj" fmla="val 1818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08160" y="4052880"/>
              <a:ext cx="1241640" cy="509760"/>
            </a:xfrm>
            <a:prstGeom prst="bracketPair">
              <a:avLst>
                <a:gd name="adj" fmla="val 1712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08160" y="5992920"/>
              <a:ext cx="1241640" cy="509400"/>
            </a:xfrm>
            <a:prstGeom prst="bracketPair">
              <a:avLst>
                <a:gd name="adj" fmla="val 1712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040" y="4229280"/>
              <a:ext cx="125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 12  11 10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30040" y="4006800"/>
              <a:ext cx="125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 15  14 13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0040" y="4641840"/>
              <a:ext cx="125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 15  14 13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31840" y="4863960"/>
              <a:ext cx="125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 12  11 10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25880" y="6107040"/>
              <a:ext cx="10080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17960" y="5272200"/>
              <a:ext cx="1008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17960" y="6315120"/>
              <a:ext cx="1008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31120" y="5987880"/>
              <a:ext cx="129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15  14  13 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31120" y="6210360"/>
              <a:ext cx="129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12  11  10 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83360" y="5265720"/>
              <a:ext cx="17888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46880" y="5351400"/>
              <a:ext cx="1266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46880" y="5950080"/>
              <a:ext cx="12668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76880" y="3875040"/>
              <a:ext cx="178740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54800" y="4606920"/>
              <a:ext cx="12668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33920" y="4000680"/>
              <a:ext cx="12668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64240" y="4924440"/>
              <a:ext cx="10065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78640" y="4078440"/>
              <a:ext cx="1008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70720" y="4700520"/>
              <a:ext cx="10080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72160" y="4286160"/>
              <a:ext cx="10080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57680" y="4606920"/>
              <a:ext cx="1241640" cy="509760"/>
            </a:xfrm>
            <a:prstGeom prst="bracketPair">
              <a:avLst>
                <a:gd name="adj" fmla="val 1712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08560" y="3903840"/>
              <a:ext cx="1736640" cy="2636640"/>
            </a:xfrm>
            <a:prstGeom prst="bracketPair">
              <a:avLst>
                <a:gd name="adj" fmla="val 1818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57680" y="4011480"/>
              <a:ext cx="1241640" cy="509760"/>
            </a:xfrm>
            <a:prstGeom prst="bracketPair">
              <a:avLst>
                <a:gd name="adj" fmla="val 1712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57680" y="5951520"/>
              <a:ext cx="1241640" cy="509760"/>
            </a:xfrm>
            <a:prstGeom prst="bracketPair">
              <a:avLst>
                <a:gd name="adj" fmla="val 1712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80280" y="4187880"/>
              <a:ext cx="125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 5    6   7  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80280" y="3965400"/>
              <a:ext cx="125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 2    3   4  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78480" y="460044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 3    4   5  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83520" y="4822920"/>
              <a:ext cx="125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 6    7   8  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75400" y="6066000"/>
              <a:ext cx="10065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67480" y="5230800"/>
              <a:ext cx="100800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67480" y="6273720"/>
              <a:ext cx="10080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83160" y="5946840"/>
              <a:ext cx="121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 9    0  0  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3160" y="6168960"/>
              <a:ext cx="121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   0    0  0  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37240" y="5108400"/>
              <a:ext cx="32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236000" y="5205240"/>
              <a:ext cx="61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6000" y="511488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67800" y="5029200"/>
              <a:ext cx="131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or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46240" y="1447920"/>
              <a:ext cx="2305440" cy="575280"/>
              <a:chOff x="246240" y="1447920"/>
              <a:chExt cx="2305440" cy="575280"/>
            </a:xfrm>
          </p:grpSpPr>
          <p:sp>
            <p:nvSpPr>
              <p:cNvPr id="192" name=""/>
              <p:cNvSpPr/>
              <p:nvPr/>
            </p:nvSpPr>
            <p:spPr>
              <a:xfrm>
                <a:off x="246240" y="156348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Σ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34960" y="1712520"/>
                <a:ext cx="66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I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52680" y="1651320"/>
                <a:ext cx="628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04080" y="1457640"/>
                <a:ext cx="7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(</a:t>
                </a:r>
                <a:r>
                  <a: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T  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H 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) 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92080" y="147780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411200" y="1553760"/>
                <a:ext cx="50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Σ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700280" y="1703880"/>
                <a:ext cx="66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I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769040" y="1447920"/>
                <a:ext cx="7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T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) 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057400" y="14680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47680" y="2779560"/>
              <a:ext cx="2305440" cy="575280"/>
              <a:chOff x="247680" y="2779560"/>
              <a:chExt cx="2305440" cy="575280"/>
            </a:xfrm>
          </p:grpSpPr>
          <p:sp>
            <p:nvSpPr>
              <p:cNvPr id="202" name=""/>
              <p:cNvSpPr/>
              <p:nvPr/>
            </p:nvSpPr>
            <p:spPr>
              <a:xfrm>
                <a:off x="247680" y="289512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Σ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6400" y="3044160"/>
                <a:ext cx="66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I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54120" y="2982960"/>
                <a:ext cx="628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05520" y="2789280"/>
                <a:ext cx="7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(</a:t>
                </a:r>
                <a:r>
                  <a: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T  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H 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) 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93520" y="280944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412640" y="2885400"/>
                <a:ext cx="50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Σ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01720" y="3035520"/>
                <a:ext cx="66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I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70480" y="2779560"/>
                <a:ext cx="7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T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) 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58840" y="2799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246240" y="4608360"/>
              <a:ext cx="2305440" cy="575280"/>
              <a:chOff x="246240" y="4608360"/>
              <a:chExt cx="2305440" cy="575280"/>
            </a:xfrm>
          </p:grpSpPr>
          <p:sp>
            <p:nvSpPr>
              <p:cNvPr id="212" name=""/>
              <p:cNvSpPr/>
              <p:nvPr/>
            </p:nvSpPr>
            <p:spPr>
              <a:xfrm>
                <a:off x="246240" y="472392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Σ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34960" y="4872960"/>
                <a:ext cx="66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I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52680" y="4811760"/>
                <a:ext cx="628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04080" y="4618080"/>
                <a:ext cx="7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(</a:t>
                </a:r>
                <a:r>
                  <a: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T  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H 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) 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92080" y="463824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11200" y="4714200"/>
                <a:ext cx="50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Σ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700280" y="4864320"/>
                <a:ext cx="66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I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69040" y="4608360"/>
                <a:ext cx="7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T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) 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057400" y="46285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47680" y="5979960"/>
              <a:ext cx="2305440" cy="575280"/>
              <a:chOff x="247680" y="5979960"/>
              <a:chExt cx="2305440" cy="575280"/>
            </a:xfrm>
          </p:grpSpPr>
          <p:sp>
            <p:nvSpPr>
              <p:cNvPr id="222" name=""/>
              <p:cNvSpPr/>
              <p:nvPr/>
            </p:nvSpPr>
            <p:spPr>
              <a:xfrm>
                <a:off x="247680" y="609552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Σ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36400" y="6244560"/>
                <a:ext cx="66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I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54120" y="6183360"/>
                <a:ext cx="628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05520" y="5989680"/>
                <a:ext cx="7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(</a:t>
                </a:r>
                <a:r>
                  <a: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T  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H 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) 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93520" y="600984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12640" y="6085800"/>
                <a:ext cx="50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Σ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01720" y="6235920"/>
                <a:ext cx="66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I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770480" y="5979960"/>
                <a:ext cx="7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T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) 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058840" y="60001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246240" y="3998880"/>
              <a:ext cx="2305440" cy="575280"/>
              <a:chOff x="246240" y="3998880"/>
              <a:chExt cx="2305440" cy="575280"/>
            </a:xfrm>
          </p:grpSpPr>
          <p:sp>
            <p:nvSpPr>
              <p:cNvPr id="232" name=""/>
              <p:cNvSpPr/>
              <p:nvPr/>
            </p:nvSpPr>
            <p:spPr>
              <a:xfrm>
                <a:off x="246240" y="411444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Σ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4960" y="4263480"/>
                <a:ext cx="66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I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52680" y="4202280"/>
                <a:ext cx="628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04080" y="4008600"/>
                <a:ext cx="7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(</a:t>
                </a:r>
                <a:r>
                  <a: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T  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H 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) 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92080" y="40287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11200" y="4104720"/>
                <a:ext cx="50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Σ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00280" y="4254840"/>
                <a:ext cx="66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I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769040" y="3998880"/>
                <a:ext cx="7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T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) 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057400" y="401904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914400" y="5351400"/>
              <a:ext cx="87480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D86-E099-4ACB-8E2D-4814260A08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62320" y="2895480"/>
            <a:ext cx="5333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Oper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-685800" y="-668160"/>
            <a:ext cx="3200400" cy="3124080"/>
          </a:xfrm>
          <a:prstGeom prst="line">
            <a:avLst/>
          </a:prstGeom>
          <a:ln w="507960">
            <a:solidFill>
              <a:srgbClr val="0000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4434480"/>
            <a:ext cx="4190760" cy="2211480"/>
          </a:xfrm>
          <a:prstGeom prst="wedgeEllipseCallout">
            <a:avLst>
              <a:gd name="adj1" fmla="val 0"/>
              <a:gd name="adj2" fmla="val -74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265C-794D-4078-A504-C1DEF97525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dent</cp:lastModifiedBy>
  <dcterms:modified xsi:type="dcterms:W3CDTF">2003-08-10T07:45:47Z</dcterms:modified>
  <cp:revision>321</cp:revision>
  <dc:subject/>
  <dc:title>PowerPoint Presentation</dc:title>
</cp:coreProperties>
</file>