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CF39-2509-46B5-B9B7-EFCF2CF50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MDPs are a planning technique that accounts for uncertainty in the world.  While they have potential, they are very computationally complex.  Macro operators can reduce this complex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value iteration can only be performed if the p and r functions are known.  An alternate technique becomes very useful if you don’t have a model.  Q learning is used in our topic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is a weighting factor, R is the observed re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eneral, hyper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-based  - Optimize the value function only for certain points in the belief space; not all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-based dynamic program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hoose beliefs? High dimens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te Car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on samples of belief space, learn values.  Interpolate for arbitrary val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parametric re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ationally difficult to learn poli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id-b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id space, regular grid spacing.  Dimensionality increases with grid res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Resolution allows for zooming in on certain parts of belief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cy 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about the policy, not the value.  Optimize the policy di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likeli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at the state is the most likely state, and perform corresponding MD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works if this is a good assumption.  Good for uncertainty due to bounded noise rather than uncertain state fe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Gath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able to learn about the state, because then it is easy to maximize the re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erarchical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macro actions, split into top level POMDP and low level POMDP.  Less states, less compu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cy 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about the policy, not the value.  Optimize the policy directly.  Train policy to produce best va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on tree is a form a visualization, and allows you to evaluate the values of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tep horiz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tep horizon, discount value of 1.  C is terminal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4FCC-CF05-4763-A0C1-429F0347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8B6C-7CF8-4940-9FE4-54795638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CD07-AE17-4669-8339-6780D686A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3BCB-B510-4FFC-8C9B-A94540EA6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4B8A-5D85-48A5-9028-094F0C93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E0A7-C8EA-4D37-BBBF-049CD44B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8BBB-634A-46A7-AC06-8649353D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37F9-22A5-44A6-B610-FD4E7C7C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91E7-2CA7-4299-AC34-C7A9D202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2030-5AFD-415F-9F1B-59462155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2C43-6BF2-4A5C-B4EA-8E38A4C8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8D1C-4C9D-40B5-8453-582CD740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4BC7-D799-4642-A462-E559D2AF6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POMDPs through Macro De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ry Bu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ny Jimen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 Bairst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 Reinforcement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can be calculated only if p(s,a) and r(s,a) ar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 Q can be train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,a) = (1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,a)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R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’,a’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trial runs; get data from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running combinations of s and a until conver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ally Observable MDP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no longer directly observe the state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at each step make an observation O, and know the probability of each observation for each state p(O|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have initial state distribution p(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19520" y="365760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365760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365760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19520" y="4724280"/>
            <a:ext cx="685800" cy="685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43400" y="4724280"/>
            <a:ext cx="685800" cy="685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867280" y="4724280"/>
            <a:ext cx="685800" cy="685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563868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00600" y="563868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"/>
          <p:cNvCxnSpPr>
            <a:stCxn id="222" idx="7"/>
            <a:endCxn id="217" idx="2"/>
          </p:cNvCxnSpPr>
          <p:nvPr/>
        </p:nvCxnSpPr>
        <p:spPr>
          <a:xfrm flipH="1" flipV="1" rot="5400000">
            <a:off x="3233520" y="4628880"/>
            <a:ext cx="1738800" cy="481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23" idx="7"/>
            <a:endCxn id="218" idx="2"/>
          </p:cNvCxnSpPr>
          <p:nvPr/>
        </p:nvCxnSpPr>
        <p:spPr>
          <a:xfrm flipH="1" flipV="1" rot="5400000">
            <a:off x="4757400" y="4628880"/>
            <a:ext cx="1738800" cy="481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16" idx="6"/>
            <a:endCxn id="217" idx="2"/>
          </p:cNvCxnSpPr>
          <p:nvPr/>
        </p:nvCxnSpPr>
        <p:spPr>
          <a:xfrm>
            <a:off x="3505320" y="400032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17" idx="6"/>
            <a:endCxn id="218" idx="2"/>
          </p:cNvCxnSpPr>
          <p:nvPr/>
        </p:nvCxnSpPr>
        <p:spPr>
          <a:xfrm>
            <a:off x="5029200" y="400032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16" idx="4"/>
            <a:endCxn id="219" idx="0"/>
          </p:cNvCxnSpPr>
          <p:nvPr/>
        </p:nvCxnSpPr>
        <p:spPr>
          <a:xfrm>
            <a:off x="3161880" y="43434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17" idx="4"/>
            <a:endCxn id="220" idx="0"/>
          </p:cNvCxnSpPr>
          <p:nvPr/>
        </p:nvCxnSpPr>
        <p:spPr>
          <a:xfrm>
            <a:off x="4686120" y="43434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18" idx="4"/>
            <a:endCxn id="221" idx="0"/>
          </p:cNvCxnSpPr>
          <p:nvPr/>
        </p:nvCxnSpPr>
        <p:spPr>
          <a:xfrm>
            <a:off x="6210000" y="43434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19" idx="4"/>
            <a:endCxn id="222" idx="2"/>
          </p:cNvCxnSpPr>
          <p:nvPr/>
        </p:nvCxnSpPr>
        <p:spPr>
          <a:xfrm flipH="1" rot="16200000">
            <a:off x="2933640" y="5638320"/>
            <a:ext cx="572400" cy="115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0" idx="4"/>
            <a:endCxn id="223" idx="2"/>
          </p:cNvCxnSpPr>
          <p:nvPr/>
        </p:nvCxnSpPr>
        <p:spPr>
          <a:xfrm flipH="1" rot="16200000">
            <a:off x="4456800" y="5638680"/>
            <a:ext cx="572400" cy="114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2590920" y="44956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38280" y="44956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(O|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3733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(s,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191120" y="34290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15000" y="34290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781680" y="3809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d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81680" y="47242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serv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48120" y="3200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200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5880" y="3200400"/>
            <a:ext cx="838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"/>
          <p:cNvCxnSpPr>
            <a:stCxn id="219" idx="6"/>
            <a:endCxn id="223" idx="2"/>
          </p:cNvCxnSpPr>
          <p:nvPr/>
        </p:nvCxnSpPr>
        <p:spPr>
          <a:xfrm>
            <a:off x="3505320" y="5067360"/>
            <a:ext cx="1296000" cy="915120"/>
          </a:xfrm>
          <a:prstGeom prst="curvedConnector5">
            <a:avLst>
              <a:gd name="adj1" fmla="val 49986"/>
              <a:gd name="adj2" fmla="val 49980"/>
              <a:gd name="adj3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22" idx="6"/>
            <a:endCxn id="223" idx="2"/>
          </p:cNvCxnSpPr>
          <p:nvPr/>
        </p:nvCxnSpPr>
        <p:spPr>
          <a:xfrm>
            <a:off x="3962520" y="5981400"/>
            <a:ext cx="8388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and Observations not independent of past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a distribution of state probabilities called a belief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(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,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4800600"/>
            <a:ext cx="121896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05520" y="4800600"/>
            <a:ext cx="121896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"/>
          <p:cNvCxnSpPr/>
          <p:nvPr/>
        </p:nvCxnSpPr>
        <p:spPr>
          <a:xfrm>
            <a:off x="1752480" y="510516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48" idx="3"/>
            <a:endCxn id="247" idx="1"/>
          </p:cNvCxnSpPr>
          <p:nvPr/>
        </p:nvCxnSpPr>
        <p:spPr>
          <a:xfrm flipH="1">
            <a:off x="2819160" y="5409720"/>
            <a:ext cx="3505680" cy="2520"/>
          </a:xfrm>
          <a:prstGeom prst="bentConnector5">
            <a:avLst>
              <a:gd name="adj1" fmla="val -6521"/>
              <a:gd name="adj2" fmla="val 59100000"/>
              <a:gd name="adj3" fmla="val 1243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/>
          <p:nvPr/>
        </p:nvCxnSpPr>
        <p:spPr>
          <a:xfrm>
            <a:off x="6324480" y="540972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7" idx="3"/>
            <a:endCxn id="247" idx="1"/>
          </p:cNvCxnSpPr>
          <p:nvPr/>
        </p:nvCxnSpPr>
        <p:spPr>
          <a:xfrm flipH="1">
            <a:off x="2819160" y="5409720"/>
            <a:ext cx="1219680" cy="2520"/>
          </a:xfrm>
          <a:prstGeom prst="bentConnector5">
            <a:avLst>
              <a:gd name="adj1" fmla="val -18748"/>
              <a:gd name="adj2" fmla="val 49600000"/>
              <a:gd name="adj3" fmla="val 1187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47" idx="3"/>
            <a:endCxn id="248" idx="1"/>
          </p:cNvCxnSpPr>
          <p:nvPr/>
        </p:nvCxnSpPr>
        <p:spPr>
          <a:xfrm>
            <a:off x="4038480" y="540972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4114800" y="5029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400800" y="5029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81080" y="4724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 Iteration with POMD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81080" y="4419720"/>
            <a:ext cx="5105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191120" y="451008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(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828800" y="4419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34320" y="4419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81080" y="1905120"/>
            <a:ext cx="510552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1981080" y="14475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7086600" y="14475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1371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0" y="1676520"/>
            <a:ext cx="4343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Q(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(1-b(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 + Q(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b(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981080" y="2971440"/>
            <a:ext cx="5105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72200" y="259092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81080" y="1905120"/>
            <a:ext cx="3505320" cy="12952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5486400" y="2971440"/>
            <a:ext cx="1600200" cy="228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49525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horizon value function is piecewise linear and conv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ing on the value of b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a different action is opt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is a one-step finite horizo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consider effect on future belief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Tree Representation of POM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90720" y="350532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362320" y="220968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464832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73" idx="3"/>
            <a:endCxn id="274" idx="2"/>
          </p:cNvCxnSpPr>
          <p:nvPr/>
        </p:nvCxnSpPr>
        <p:spPr>
          <a:xfrm flipV="1">
            <a:off x="1599840" y="2552400"/>
            <a:ext cx="762840" cy="12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3" idx="3"/>
            <a:endCxn id="275" idx="2"/>
          </p:cNvCxnSpPr>
          <p:nvPr/>
        </p:nvCxnSpPr>
        <p:spPr>
          <a:xfrm>
            <a:off x="1599840" y="3809520"/>
            <a:ext cx="762840" cy="118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4648320" y="1752480"/>
            <a:ext cx="6094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48320" y="274320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4" idx="6"/>
            <a:endCxn id="281" idx="2"/>
          </p:cNvCxnSpPr>
          <p:nvPr/>
        </p:nvCxnSpPr>
        <p:spPr>
          <a:xfrm flipV="1">
            <a:off x="3047760" y="2095200"/>
            <a:ext cx="6102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74" idx="6"/>
            <a:endCxn id="283" idx="2"/>
          </p:cNvCxnSpPr>
          <p:nvPr/>
        </p:nvCxnSpPr>
        <p:spPr>
          <a:xfrm>
            <a:off x="3047760" y="2552760"/>
            <a:ext cx="6102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3" name=""/>
          <p:cNvSpPr/>
          <p:nvPr/>
        </p:nvSpPr>
        <p:spPr>
          <a:xfrm>
            <a:off x="3657600" y="2666880"/>
            <a:ext cx="685800" cy="685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1752480"/>
            <a:ext cx="685800" cy="685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"/>
          <p:cNvCxnSpPr>
            <a:stCxn id="281" idx="6"/>
            <a:endCxn id="278" idx="1"/>
          </p:cNvCxnSpPr>
          <p:nvPr/>
        </p:nvCxnSpPr>
        <p:spPr>
          <a:xfrm flipV="1">
            <a:off x="4343040" y="2057040"/>
            <a:ext cx="3056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83" idx="6"/>
            <a:endCxn id="279" idx="1"/>
          </p:cNvCxnSpPr>
          <p:nvPr/>
        </p:nvCxnSpPr>
        <p:spPr>
          <a:xfrm>
            <a:off x="4343040" y="3009960"/>
            <a:ext cx="3056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6" name=""/>
          <p:cNvSpPr/>
          <p:nvPr/>
        </p:nvSpPr>
        <p:spPr>
          <a:xfrm>
            <a:off x="4648320" y="419112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648320" y="5181480"/>
            <a:ext cx="6094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"/>
          <p:cNvCxnSpPr>
            <a:stCxn id="275" idx="6"/>
            <a:endCxn id="289" idx="2"/>
          </p:cNvCxnSpPr>
          <p:nvPr/>
        </p:nvCxnSpPr>
        <p:spPr>
          <a:xfrm flipV="1">
            <a:off x="3047760" y="4533480"/>
            <a:ext cx="6102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75" idx="6"/>
            <a:endCxn id="291" idx="2"/>
          </p:cNvCxnSpPr>
          <p:nvPr/>
        </p:nvCxnSpPr>
        <p:spPr>
          <a:xfrm>
            <a:off x="3047760" y="4991040"/>
            <a:ext cx="6102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3657600" y="5105520"/>
            <a:ext cx="685800" cy="685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657600" y="4191120"/>
            <a:ext cx="685800" cy="685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" name=""/>
          <p:cNvCxnSpPr>
            <a:stCxn id="289" idx="6"/>
            <a:endCxn id="286" idx="1"/>
          </p:cNvCxnSpPr>
          <p:nvPr/>
        </p:nvCxnSpPr>
        <p:spPr>
          <a:xfrm flipV="1">
            <a:off x="4343040" y="4495320"/>
            <a:ext cx="3056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stCxn id="291" idx="6"/>
            <a:endCxn id="287" idx="1"/>
          </p:cNvCxnSpPr>
          <p:nvPr/>
        </p:nvCxnSpPr>
        <p:spPr>
          <a:xfrm>
            <a:off x="4343040" y="5448240"/>
            <a:ext cx="3056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6095880" y="129528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95880" y="213372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"/>
          <p:cNvCxnSpPr>
            <a:stCxn id="278" idx="3"/>
            <a:endCxn id="294" idx="2"/>
          </p:cNvCxnSpPr>
          <p:nvPr/>
        </p:nvCxnSpPr>
        <p:spPr>
          <a:xfrm flipV="1">
            <a:off x="5257800" y="1638000"/>
            <a:ext cx="83880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78" idx="3"/>
            <a:endCxn id="295" idx="2"/>
          </p:cNvCxnSpPr>
          <p:nvPr/>
        </p:nvCxnSpPr>
        <p:spPr>
          <a:xfrm>
            <a:off x="5257800" y="2057400"/>
            <a:ext cx="83880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6095880" y="373392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95880" y="45720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0" name=""/>
          <p:cNvCxnSpPr>
            <a:stCxn id="286" idx="3"/>
            <a:endCxn id="298" idx="2"/>
          </p:cNvCxnSpPr>
          <p:nvPr/>
        </p:nvCxnSpPr>
        <p:spPr>
          <a:xfrm flipV="1">
            <a:off x="5257800" y="4076280"/>
            <a:ext cx="83880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1" name=""/>
          <p:cNvCxnSpPr>
            <a:stCxn id="286" idx="3"/>
            <a:endCxn id="299" idx="2"/>
          </p:cNvCxnSpPr>
          <p:nvPr/>
        </p:nvCxnSpPr>
        <p:spPr>
          <a:xfrm>
            <a:off x="5257800" y="4495320"/>
            <a:ext cx="838800" cy="42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"/>
          <p:cNvSpPr/>
          <p:nvPr/>
        </p:nvSpPr>
        <p:spPr>
          <a:xfrm>
            <a:off x="7086600" y="25146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86600" y="335268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"/>
          <p:cNvCxnSpPr>
            <a:stCxn id="279" idx="3"/>
            <a:endCxn id="302" idx="2"/>
          </p:cNvCxnSpPr>
          <p:nvPr/>
        </p:nvCxnSpPr>
        <p:spPr>
          <a:xfrm flipV="1">
            <a:off x="5257800" y="2856960"/>
            <a:ext cx="182952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79" idx="3"/>
            <a:endCxn id="303" idx="2"/>
          </p:cNvCxnSpPr>
          <p:nvPr/>
        </p:nvCxnSpPr>
        <p:spPr>
          <a:xfrm>
            <a:off x="5257800" y="3047760"/>
            <a:ext cx="182952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7086600" y="495288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86600" y="579132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287" idx="3"/>
            <a:endCxn id="306" idx="2"/>
          </p:cNvCxnSpPr>
          <p:nvPr/>
        </p:nvCxnSpPr>
        <p:spPr>
          <a:xfrm flipV="1">
            <a:off x="5257800" y="5295240"/>
            <a:ext cx="182952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287" idx="3"/>
            <a:endCxn id="307" idx="2"/>
          </p:cNvCxnSpPr>
          <p:nvPr/>
        </p:nvCxnSpPr>
        <p:spPr>
          <a:xfrm>
            <a:off x="5257800" y="5486040"/>
            <a:ext cx="182952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ximation: Point-Ba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46940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on specific points in continuous belief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beliefs be chos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high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76520" y="22860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371600" y="23623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3886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62120" y="39625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191120" y="18288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86200" y="19051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62940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324480" y="37339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038480" y="3581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733920" y="3657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715000" y="2209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22860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705720" y="2057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400800" y="21337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581280" y="28195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76720" y="28954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ximation: Monte Car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46940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values of actions for samples of belief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olate for arbitrary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ationally difficult to learn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114800" y="2819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"/>
          <p:cNvCxnSpPr>
            <a:stCxn id="330" idx="6"/>
          </p:cNvCxnSpPr>
          <p:nvPr/>
        </p:nvCxnSpPr>
        <p:spPr>
          <a:xfrm>
            <a:off x="4266720" y="2895120"/>
            <a:ext cx="160092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2" name=""/>
          <p:cNvCxnSpPr>
            <a:stCxn id="330" idx="6"/>
          </p:cNvCxnSpPr>
          <p:nvPr/>
        </p:nvCxnSpPr>
        <p:spPr>
          <a:xfrm>
            <a:off x="4266720" y="2895480"/>
            <a:ext cx="213444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3" name=""/>
          <p:cNvCxnSpPr>
            <a:stCxn id="330" idx="6"/>
          </p:cNvCxnSpPr>
          <p:nvPr/>
        </p:nvCxnSpPr>
        <p:spPr>
          <a:xfrm>
            <a:off x="4266720" y="2895120"/>
            <a:ext cx="11437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4" name=""/>
          <p:cNvCxnSpPr>
            <a:stCxn id="330" idx="6"/>
          </p:cNvCxnSpPr>
          <p:nvPr/>
        </p:nvCxnSpPr>
        <p:spPr>
          <a:xfrm flipV="1">
            <a:off x="4267080" y="2666160"/>
            <a:ext cx="6105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5" name=""/>
          <p:cNvCxnSpPr>
            <a:stCxn id="330" idx="6"/>
          </p:cNvCxnSpPr>
          <p:nvPr/>
        </p:nvCxnSpPr>
        <p:spPr>
          <a:xfrm flipV="1">
            <a:off x="4266720" y="2666160"/>
            <a:ext cx="16009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6" name=""/>
          <p:cNvCxnSpPr>
            <a:stCxn id="330" idx="6"/>
          </p:cNvCxnSpPr>
          <p:nvPr/>
        </p:nvCxnSpPr>
        <p:spPr>
          <a:xfrm flipV="1">
            <a:off x="4267080" y="2437920"/>
            <a:ext cx="19058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7" name=""/>
          <p:cNvCxnSpPr>
            <a:stCxn id="330" idx="5"/>
          </p:cNvCxnSpPr>
          <p:nvPr/>
        </p:nvCxnSpPr>
        <p:spPr>
          <a:xfrm>
            <a:off x="4245120" y="2949120"/>
            <a:ext cx="568800" cy="95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8" name=""/>
          <p:cNvCxnSpPr>
            <a:stCxn id="330" idx="3"/>
          </p:cNvCxnSpPr>
          <p:nvPr/>
        </p:nvCxnSpPr>
        <p:spPr>
          <a:xfrm flipH="1">
            <a:off x="2819160" y="2949480"/>
            <a:ext cx="13183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9" name=""/>
          <p:cNvCxnSpPr>
            <a:stCxn id="330" idx="2"/>
          </p:cNvCxnSpPr>
          <p:nvPr/>
        </p:nvCxnSpPr>
        <p:spPr>
          <a:xfrm flipH="1" flipV="1">
            <a:off x="3733560" y="2590560"/>
            <a:ext cx="38160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0" idx="6"/>
          </p:cNvCxnSpPr>
          <p:nvPr/>
        </p:nvCxnSpPr>
        <p:spPr>
          <a:xfrm flipV="1">
            <a:off x="4267080" y="2208960"/>
            <a:ext cx="9914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1" name=""/>
          <p:cNvCxnSpPr>
            <a:stCxn id="330" idx="5"/>
          </p:cNvCxnSpPr>
          <p:nvPr/>
        </p:nvCxnSpPr>
        <p:spPr>
          <a:xfrm>
            <a:off x="4244760" y="2949480"/>
            <a:ext cx="49284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2" name=""/>
          <p:cNvCxnSpPr>
            <a:stCxn id="330" idx="6"/>
          </p:cNvCxnSpPr>
          <p:nvPr/>
        </p:nvCxnSpPr>
        <p:spPr>
          <a:xfrm>
            <a:off x="4267080" y="2895480"/>
            <a:ext cx="14486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3" name=""/>
          <p:cNvCxnSpPr>
            <a:stCxn id="330" idx="1"/>
          </p:cNvCxnSpPr>
          <p:nvPr/>
        </p:nvCxnSpPr>
        <p:spPr>
          <a:xfrm flipH="1" flipV="1">
            <a:off x="3873240" y="1739520"/>
            <a:ext cx="264240" cy="11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4" name=""/>
          <p:cNvSpPr/>
          <p:nvPr/>
        </p:nvSpPr>
        <p:spPr>
          <a:xfrm>
            <a:off x="4191120" y="23004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743200" y="3048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14600" y="30481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038480" y="29718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00400" y="39625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1800" y="40384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0" y="3886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39625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"/>
          <p:cNvCxnSpPr>
            <a:stCxn id="345" idx="4"/>
          </p:cNvCxnSpPr>
          <p:nvPr/>
        </p:nvCxnSpPr>
        <p:spPr>
          <a:xfrm>
            <a:off x="2819160" y="32000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353" name=""/>
          <p:cNvCxnSpPr>
            <a:stCxn id="350" idx="7"/>
          </p:cNvCxnSpPr>
          <p:nvPr/>
        </p:nvCxnSpPr>
        <p:spPr>
          <a:xfrm flipV="1">
            <a:off x="2416320" y="3809520"/>
            <a:ext cx="403920" cy="99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354" name=""/>
          <p:cNvCxnSpPr>
            <a:stCxn id="348" idx="2"/>
          </p:cNvCxnSpPr>
          <p:nvPr/>
        </p:nvCxnSpPr>
        <p:spPr>
          <a:xfrm flipH="1" flipV="1">
            <a:off x="2819160" y="3809160"/>
            <a:ext cx="381600" cy="229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ximation: Grid-Ba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46940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point-based approximation, but with regular sp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use variable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increases with dimensionality and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343400" y="169056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038480" y="17668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514600" y="169056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209680" y="17668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169056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7668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343400" y="4129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038480" y="420516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2909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038480" y="2986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172200" y="2909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867280" y="2986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14600" y="4129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209680" y="420516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514600" y="2909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209680" y="29862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72200" y="4129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867280" y="420516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257800" y="169056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52880" y="17668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257800" y="2300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952880" y="237636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257800" y="2909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952880" y="29862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172200" y="2300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867280" y="237636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343400" y="2300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038480" y="237636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cy Heu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um-Likeli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state is most-likely state, perform M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Gath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ctions to reduce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archical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 problem into smaller POMD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e the policy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uristic: Maximum-Likelih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50752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that the state is the most likely state, and perform corresponding MD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works if this is a good assump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38080" y="18288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= &lt;0.08, 0.02, 0.1, 0.8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M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38080" y="38242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= &lt;  0 ,   0 ,   0 ,   1 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M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819520" y="251460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010280" y="251460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POMD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an Bairst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ion of POMD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ry B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ing POMDPs with Macro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ny Jimen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uristic: Information Gath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50752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DP is easy to s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able to learn about the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33520" y="38242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= &lt; 1 ,  0 ,  0 ,  0 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43400" y="38242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= &lt; 0.1, 0.2, 0.4, 0.3 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1523880"/>
            <a:ext cx="99072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8" name=""/>
          <p:cNvCxnSpPr>
            <a:stCxn id="397" idx="3"/>
            <a:endCxn id="395" idx="0"/>
          </p:cNvCxnSpPr>
          <p:nvPr/>
        </p:nvCxnSpPr>
        <p:spPr>
          <a:xfrm flipH="1">
            <a:off x="2437920" y="2369880"/>
            <a:ext cx="1517040" cy="1454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7" idx="5"/>
            <a:endCxn id="396" idx="0"/>
          </p:cNvCxnSpPr>
          <p:nvPr/>
        </p:nvCxnSpPr>
        <p:spPr>
          <a:xfrm>
            <a:off x="4656240" y="2369880"/>
            <a:ext cx="1707120" cy="1454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uristic: Hierarchical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50752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it into top level POMDP and low level POMD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state space reduces amount of com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38080" y="1828800"/>
            <a:ext cx="259092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ief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733920" y="3048120"/>
            <a:ext cx="1295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705720" y="167652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162920" y="3809880"/>
            <a:ext cx="6094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229600" y="3809880"/>
            <a:ext cx="6094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81480" y="3809880"/>
            <a:ext cx="6098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248520" y="3809880"/>
            <a:ext cx="6094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696080" y="2666880"/>
            <a:ext cx="6098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715000" y="2666880"/>
            <a:ext cx="6094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"/>
          <p:cNvCxnSpPr>
            <a:stCxn id="404" idx="2"/>
            <a:endCxn id="410" idx="0"/>
          </p:cNvCxnSpPr>
          <p:nvPr/>
        </p:nvCxnSpPr>
        <p:spPr>
          <a:xfrm flipH="1">
            <a:off x="6019200" y="2286000"/>
            <a:ext cx="99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2" name=""/>
          <p:cNvCxnSpPr>
            <a:stCxn id="404" idx="2"/>
            <a:endCxn id="409" idx="0"/>
          </p:cNvCxnSpPr>
          <p:nvPr/>
        </p:nvCxnSpPr>
        <p:spPr>
          <a:xfrm>
            <a:off x="7010280" y="2286000"/>
            <a:ext cx="9914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410" idx="2"/>
            <a:endCxn id="407" idx="0"/>
          </p:cNvCxnSpPr>
          <p:nvPr/>
        </p:nvCxnSpPr>
        <p:spPr>
          <a:xfrm flipH="1">
            <a:off x="5486040" y="3276360"/>
            <a:ext cx="53424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4" name=""/>
          <p:cNvCxnSpPr>
            <a:stCxn id="410" idx="2"/>
            <a:endCxn id="408" idx="0"/>
          </p:cNvCxnSpPr>
          <p:nvPr/>
        </p:nvCxnSpPr>
        <p:spPr>
          <a:xfrm>
            <a:off x="6019560" y="3276360"/>
            <a:ext cx="5338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5" name=""/>
          <p:cNvCxnSpPr>
            <a:stCxn id="409" idx="2"/>
            <a:endCxn id="405" idx="0"/>
          </p:cNvCxnSpPr>
          <p:nvPr/>
        </p:nvCxnSpPr>
        <p:spPr>
          <a:xfrm flipH="1">
            <a:off x="7467120" y="3276360"/>
            <a:ext cx="53424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6" name=""/>
          <p:cNvCxnSpPr>
            <a:stCxn id="409" idx="2"/>
            <a:endCxn id="406" idx="0"/>
          </p:cNvCxnSpPr>
          <p:nvPr/>
        </p:nvCxnSpPr>
        <p:spPr>
          <a:xfrm>
            <a:off x="8001000" y="3276360"/>
            <a:ext cx="53424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7" name=""/>
          <p:cNvSpPr/>
          <p:nvPr/>
        </p:nvSpPr>
        <p:spPr>
          <a:xfrm>
            <a:off x="6400800" y="259092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MDP of POMD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uristic: Policy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nforcement learning on policy instead of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and Policy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value and policy reinforcement learning into a single update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POMD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POMD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ov Decision Processes (MD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It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ally Observable Markov Decision Processes (POMD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ion of POMD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ing POMDPs with Macro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vigation of a Buil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s building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s to reach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it get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600200"/>
            <a:ext cx="3733920" cy="480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1600200"/>
            <a:ext cx="1219320" cy="1981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76520"/>
            <a:ext cx="533160" cy="506160"/>
          </a:xfrm>
          <a:prstGeom prst="star5">
            <a:avLst/>
          </a:prstGeom>
          <a:solidFill>
            <a:srgbClr val="fff16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5791320"/>
            <a:ext cx="2286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5715000"/>
            <a:ext cx="7632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5943600"/>
            <a:ext cx="7632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5715000"/>
            <a:ext cx="7632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5943600"/>
            <a:ext cx="7632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2209680"/>
            <a:ext cx="1219320" cy="1371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4114800"/>
            <a:ext cx="121932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5181480"/>
            <a:ext cx="1295280" cy="60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4114800"/>
            <a:ext cx="1219320" cy="1066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5715000"/>
            <a:ext cx="60948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ov Decision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05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,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,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Probabilities, p(s,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ards, r(s,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38120" y="1599840"/>
            <a:ext cx="4800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stat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act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 reward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r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becomes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cording to probabilities p(s,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4419720"/>
            <a:ext cx="8305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191120"/>
            <a:ext cx="8229600" cy="19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polic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choosing actions that maximizes the lifetime re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unt Factor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=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DP Mode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502920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 A, B,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 1,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probabilities p and rewards r in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is terminal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2895480"/>
            <a:ext cx="121932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2895480"/>
            <a:ext cx="121896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24480" y="2895480"/>
            <a:ext cx="121932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6" idx="7"/>
            <a:endCxn id="77" idx="1"/>
          </p:cNvCxnSpPr>
          <p:nvPr/>
        </p:nvCxnSpPr>
        <p:spPr>
          <a:xfrm flipH="1" rot="16200000">
            <a:off x="3047040" y="2209320"/>
            <a:ext cx="2520" cy="1728000"/>
          </a:xfrm>
          <a:prstGeom prst="curvedConnector5">
            <a:avLst>
              <a:gd name="adj1" fmla="val -25600000"/>
              <a:gd name="adj2" fmla="val 49989"/>
              <a:gd name="adj3" fmla="val -25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76" idx="7"/>
            <a:endCxn id="78" idx="1"/>
          </p:cNvCxnSpPr>
          <p:nvPr/>
        </p:nvCxnSpPr>
        <p:spPr>
          <a:xfrm flipH="1" rot="16200000">
            <a:off x="4342320" y="914400"/>
            <a:ext cx="2520" cy="4318200"/>
          </a:xfrm>
          <a:prstGeom prst="curvedConnector5">
            <a:avLst>
              <a:gd name="adj1" fmla="val -42600000"/>
              <a:gd name="adj2" fmla="val 50000"/>
              <a:gd name="adj3" fmla="val -42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6" idx="1"/>
            <a:endCxn id="76" idx="0"/>
          </p:cNvCxnSpPr>
          <p:nvPr/>
        </p:nvCxnSpPr>
        <p:spPr>
          <a:xfrm flipH="1" flipV="1" rot="5400000">
            <a:off x="1447560" y="2768400"/>
            <a:ext cx="178200" cy="432360"/>
          </a:xfrm>
          <a:prstGeom prst="curvedConnector5">
            <a:avLst>
              <a:gd name="adj1" fmla="val 198582"/>
              <a:gd name="adj2" fmla="val 50000"/>
              <a:gd name="adj3" fmla="val 1985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6" idx="1"/>
            <a:endCxn id="78" idx="0"/>
          </p:cNvCxnSpPr>
          <p:nvPr/>
        </p:nvCxnSpPr>
        <p:spPr>
          <a:xfrm flipH="1" flipV="1" rot="5400000">
            <a:off x="4038480" y="177480"/>
            <a:ext cx="178200" cy="5614200"/>
          </a:xfrm>
          <a:prstGeom prst="curvedConnector5">
            <a:avLst>
              <a:gd name="adj1" fmla="val 750607"/>
              <a:gd name="adj2" fmla="val 50000"/>
              <a:gd name="adj3" fmla="val 7506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2438280" y="23623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2666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stCxn id="77" idx="4"/>
            <a:endCxn id="76" idx="4"/>
          </p:cNvCxnSpPr>
          <p:nvPr/>
        </p:nvCxnSpPr>
        <p:spPr>
          <a:xfrm rot="5400000">
            <a:off x="3046320" y="2819880"/>
            <a:ext cx="2160" cy="2591640"/>
          </a:xfrm>
          <a:prstGeom prst="curvedConnector5">
            <a:avLst>
              <a:gd name="adj1" fmla="val 36100000"/>
              <a:gd name="adj2" fmla="val 50000"/>
              <a:gd name="adj3" fmla="val 36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77" idx="4"/>
            <a:endCxn id="78" idx="4"/>
          </p:cNvCxnSpPr>
          <p:nvPr/>
        </p:nvCxnSpPr>
        <p:spPr>
          <a:xfrm flipH="1" rot="16200000">
            <a:off x="5637240" y="2819880"/>
            <a:ext cx="2160" cy="2591640"/>
          </a:xfrm>
          <a:prstGeom prst="curvedConnector5">
            <a:avLst>
              <a:gd name="adj1" fmla="val 34000000"/>
              <a:gd name="adj2" fmla="val 50000"/>
              <a:gd name="adj3" fmla="val 34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77" idx="5"/>
            <a:endCxn id="78" idx="3"/>
          </p:cNvCxnSpPr>
          <p:nvPr/>
        </p:nvCxnSpPr>
        <p:spPr>
          <a:xfrm flipH="1" rot="16200000">
            <a:off x="5637600" y="3073680"/>
            <a:ext cx="2520" cy="1728000"/>
          </a:xfrm>
          <a:prstGeom prst="curvedConnector5">
            <a:avLst>
              <a:gd name="adj1" fmla="val 12700000"/>
              <a:gd name="adj2" fmla="val 49989"/>
              <a:gd name="adj3" fmla="val 127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77" idx="5"/>
            <a:endCxn id="77" idx="6"/>
          </p:cNvCxnSpPr>
          <p:nvPr/>
        </p:nvCxnSpPr>
        <p:spPr>
          <a:xfrm flipH="1" flipV="1" rot="5400000">
            <a:off x="4647960" y="3631680"/>
            <a:ext cx="432360" cy="178200"/>
          </a:xfrm>
          <a:prstGeom prst="curvedConnector5">
            <a:avLst>
              <a:gd name="adj1" fmla="val -29000"/>
              <a:gd name="adj2" fmla="val 197975"/>
              <a:gd name="adj3" fmla="val -29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91120" y="4267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3733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137160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= 0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2438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= 0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20574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= 0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26668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= 0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3581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= 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81480" y="41148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= 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4648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= 0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66880" y="4724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= 0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20574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r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43600" y="24382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r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40384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r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42670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r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25909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r = 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32004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r = 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2666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r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419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r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78" idx="7"/>
            <a:endCxn id="78" idx="5"/>
          </p:cNvCxnSpPr>
          <p:nvPr/>
        </p:nvCxnSpPr>
        <p:spPr>
          <a:xfrm flipH="1" rot="16200000">
            <a:off x="6934680" y="3503160"/>
            <a:ext cx="864360" cy="2520"/>
          </a:xfrm>
          <a:prstGeom prst="curvedConnector5">
            <a:avLst>
              <a:gd name="adj1" fmla="val -11000"/>
              <a:gd name="adj2" fmla="val 18750000"/>
              <a:gd name="adj3" fmla="val -11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ision Tree Representation of M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3505320"/>
            <a:ext cx="6098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81080" y="220968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464832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9" idx="3"/>
            <a:endCxn id="110" idx="2"/>
          </p:cNvCxnSpPr>
          <p:nvPr/>
        </p:nvCxnSpPr>
        <p:spPr>
          <a:xfrm flipV="1">
            <a:off x="1219320" y="2552400"/>
            <a:ext cx="762480" cy="12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9" idx="3"/>
            <a:endCxn id="111" idx="2"/>
          </p:cNvCxnSpPr>
          <p:nvPr/>
        </p:nvCxnSpPr>
        <p:spPr>
          <a:xfrm>
            <a:off x="1219320" y="3809520"/>
            <a:ext cx="762480" cy="118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3505320" y="182880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259092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0" idx="6"/>
            <a:endCxn id="114" idx="1"/>
          </p:cNvCxnSpPr>
          <p:nvPr/>
        </p:nvCxnSpPr>
        <p:spPr>
          <a:xfrm flipV="1">
            <a:off x="2666520" y="2133360"/>
            <a:ext cx="83916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0" idx="6"/>
            <a:endCxn id="115" idx="1"/>
          </p:cNvCxnSpPr>
          <p:nvPr/>
        </p:nvCxnSpPr>
        <p:spPr>
          <a:xfrm>
            <a:off x="2666520" y="2552760"/>
            <a:ext cx="839160" cy="34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2819520" y="20574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27432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05320" y="502920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267080"/>
            <a:ext cx="6094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11" idx="6"/>
            <a:endCxn id="121" idx="1"/>
          </p:cNvCxnSpPr>
          <p:nvPr/>
        </p:nvCxnSpPr>
        <p:spPr>
          <a:xfrm flipV="1">
            <a:off x="2666520" y="4571640"/>
            <a:ext cx="83916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1" idx="6"/>
            <a:endCxn id="120" idx="1"/>
          </p:cNvCxnSpPr>
          <p:nvPr/>
        </p:nvCxnSpPr>
        <p:spPr>
          <a:xfrm>
            <a:off x="2666520" y="4990680"/>
            <a:ext cx="83916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2819520" y="44956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19520" y="5181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5334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2895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4648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2096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2895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53341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0.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41911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0.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14479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Re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144792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xpected Re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4479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Max Q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ision Tree Representation of M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3505320"/>
            <a:ext cx="6098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220968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464832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7" idx="3"/>
            <a:endCxn id="138" idx="2"/>
          </p:cNvCxnSpPr>
          <p:nvPr/>
        </p:nvCxnSpPr>
        <p:spPr>
          <a:xfrm flipV="1">
            <a:off x="1219320" y="2552400"/>
            <a:ext cx="762480" cy="12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7" idx="3"/>
            <a:endCxn id="139" idx="2"/>
          </p:cNvCxnSpPr>
          <p:nvPr/>
        </p:nvCxnSpPr>
        <p:spPr>
          <a:xfrm>
            <a:off x="1219320" y="3809520"/>
            <a:ext cx="762480" cy="118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3505320" y="182880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259092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38" idx="6"/>
            <a:endCxn id="142" idx="1"/>
          </p:cNvCxnSpPr>
          <p:nvPr/>
        </p:nvCxnSpPr>
        <p:spPr>
          <a:xfrm flipV="1">
            <a:off x="2666520" y="2133360"/>
            <a:ext cx="83916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8" idx="6"/>
            <a:endCxn id="143" idx="1"/>
          </p:cNvCxnSpPr>
          <p:nvPr/>
        </p:nvCxnSpPr>
        <p:spPr>
          <a:xfrm>
            <a:off x="2666520" y="2552760"/>
            <a:ext cx="839160" cy="34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2819520" y="20574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19520" y="27432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502920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4267080"/>
            <a:ext cx="6094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39" idx="6"/>
            <a:endCxn id="149" idx="1"/>
          </p:cNvCxnSpPr>
          <p:nvPr/>
        </p:nvCxnSpPr>
        <p:spPr>
          <a:xfrm flipV="1">
            <a:off x="2666520" y="4571640"/>
            <a:ext cx="83916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6"/>
            <a:endCxn id="148" idx="1"/>
          </p:cNvCxnSpPr>
          <p:nvPr/>
        </p:nvCxnSpPr>
        <p:spPr>
          <a:xfrm>
            <a:off x="2666520" y="4990680"/>
            <a:ext cx="83916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2819520" y="44956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19520" y="5181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5334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2895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4080" y="4648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0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8120" y="2286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0.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2895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0.6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28800" y="53341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0.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41911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0.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14479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Max Q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76520" y="144792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Total Future Re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14479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Max Q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129528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266688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"/>
          <p:cNvCxnSpPr>
            <a:stCxn id="142" idx="3"/>
            <a:endCxn id="164" idx="2"/>
          </p:cNvCxnSpPr>
          <p:nvPr/>
        </p:nvCxnSpPr>
        <p:spPr>
          <a:xfrm flipV="1">
            <a:off x="4114800" y="1638000"/>
            <a:ext cx="99144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42" idx="3"/>
            <a:endCxn id="165" idx="2"/>
          </p:cNvCxnSpPr>
          <p:nvPr/>
        </p:nvCxnSpPr>
        <p:spPr>
          <a:xfrm>
            <a:off x="4114800" y="2133720"/>
            <a:ext cx="99144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6629400" y="121932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29400" y="1981080"/>
            <a:ext cx="6094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"/>
          <p:cNvCxnSpPr>
            <a:stCxn id="164" idx="6"/>
            <a:endCxn id="168" idx="1"/>
          </p:cNvCxnSpPr>
          <p:nvPr/>
        </p:nvCxnSpPr>
        <p:spPr>
          <a:xfrm flipV="1">
            <a:off x="5791320" y="1523520"/>
            <a:ext cx="83880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4" idx="6"/>
            <a:endCxn id="169" idx="1"/>
          </p:cNvCxnSpPr>
          <p:nvPr/>
        </p:nvCxnSpPr>
        <p:spPr>
          <a:xfrm>
            <a:off x="5791320" y="1638000"/>
            <a:ext cx="83880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5943600" y="12952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43600" y="20574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24480" y="2286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24480" y="16002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514600"/>
            <a:ext cx="6098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467480" y="3276720"/>
            <a:ext cx="6098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65" idx="6"/>
            <a:endCxn id="176" idx="1"/>
          </p:cNvCxnSpPr>
          <p:nvPr/>
        </p:nvCxnSpPr>
        <p:spPr>
          <a:xfrm flipV="1">
            <a:off x="5791320" y="2818800"/>
            <a:ext cx="16768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65" idx="6"/>
            <a:endCxn id="177" idx="1"/>
          </p:cNvCxnSpPr>
          <p:nvPr/>
        </p:nvCxnSpPr>
        <p:spPr>
          <a:xfrm>
            <a:off x="5791320" y="3009600"/>
            <a:ext cx="16768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5943600" y="26668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43600" y="32004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35812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86600" y="2895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48320" y="2971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0.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24280" y="17524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05520" y="373392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510552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endCxn id="186" idx="2"/>
          </p:cNvCxnSpPr>
          <p:nvPr/>
        </p:nvCxnSpPr>
        <p:spPr>
          <a:xfrm flipV="1">
            <a:off x="4114800" y="4076280"/>
            <a:ext cx="99144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endCxn id="187" idx="2"/>
          </p:cNvCxnSpPr>
          <p:nvPr/>
        </p:nvCxnSpPr>
        <p:spPr>
          <a:xfrm>
            <a:off x="4114800" y="4572000"/>
            <a:ext cx="99144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6629400" y="365760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29400" y="441972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86" idx="6"/>
            <a:endCxn id="190" idx="1"/>
          </p:cNvCxnSpPr>
          <p:nvPr/>
        </p:nvCxnSpPr>
        <p:spPr>
          <a:xfrm flipV="1">
            <a:off x="5791320" y="3961800"/>
            <a:ext cx="838800" cy="11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86" idx="6"/>
            <a:endCxn id="191" idx="1"/>
          </p:cNvCxnSpPr>
          <p:nvPr/>
        </p:nvCxnSpPr>
        <p:spPr>
          <a:xfrm>
            <a:off x="5791320" y="4076280"/>
            <a:ext cx="83880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5943600" y="37339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44956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47242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4038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467480" y="4952880"/>
            <a:ext cx="6098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467480" y="5715000"/>
            <a:ext cx="6098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87" idx="6"/>
            <a:endCxn id="198" idx="1"/>
          </p:cNvCxnSpPr>
          <p:nvPr/>
        </p:nvCxnSpPr>
        <p:spPr>
          <a:xfrm flipV="1">
            <a:off x="5791320" y="5257080"/>
            <a:ext cx="16768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87" idx="6"/>
            <a:endCxn id="199" idx="1"/>
          </p:cNvCxnSpPr>
          <p:nvPr/>
        </p:nvCxnSpPr>
        <p:spPr>
          <a:xfrm>
            <a:off x="5791320" y="5448240"/>
            <a:ext cx="167688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5943600" y="5105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43600" y="56386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60199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5334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724280" y="54100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24280" y="41911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67080" y="121932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xpected Re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91520" y="121932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Re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 It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te Horizon, 1 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,a) = r(s,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te Horizon, n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,a) = r(s,a)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p(s’|s,a)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’,a’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inite Horiz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(s,a) = r(s,a)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p(s’|s,a) 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(s’,a’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) = arg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(s,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9T17:12:42Z</dcterms:created>
  <dc:creator>Brian Bairstow</dc:creator>
  <dc:description/>
  <dc:language>en-US</dc:language>
  <cp:lastModifiedBy>Brian Bairstow</cp:lastModifiedBy>
  <dcterms:modified xsi:type="dcterms:W3CDTF">2005-03-26T19:11:55Z</dcterms:modified>
  <cp:revision>147</cp:revision>
  <dc:subject/>
  <dc:title>Solving POMDPs through Macro Decomposition</dc:title>
</cp:coreProperties>
</file>