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CB99-CEB0-489B-BC3B-82D1EFE70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learning with a model is otherwise called Real Time Dynamic Programming (RTD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d-point has maximum barycentric coordinate, which is a 3 component coordinate system of a point in a triangle.  Creating three mini-triangles and the barycentric coordinate is the relation between the th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resolution is 1 initialize gi’s value to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&gt; expected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(s,a,.) for 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(a,s’,.) for 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ore the rewar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MMI10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(g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:= R(g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R(s, a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r use reward-shaping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(</a:t>
            </a:r>
            <a:r>
              <a:rPr b="0" lang="en-US" sz="1000" spc="-1" strike="noStrike">
                <a:solidFill>
                  <a:srgbClr val="000000"/>
                </a:solidFill>
                <a:latin typeface="CMMI10"/>
              </a:rPr>
              <a:t>g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CMMI7"/>
              </a:rPr>
              <a:t>i</a:t>
            </a:r>
            <a:r>
              <a:rPr b="0" lang="en-US" sz="1000" spc="-1" strike="noStrike">
                <a:solidFill>
                  <a:srgbClr val="000000"/>
                </a:solidFill>
                <a:latin typeface="CMMI10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:= R(</a:t>
            </a:r>
            <a:r>
              <a:rPr b="0" lang="en-US" sz="1000" spc="-1" strike="noStrike">
                <a:solidFill>
                  <a:srgbClr val="000000"/>
                </a:solidFill>
                <a:latin typeface="CMMI10"/>
              </a:rPr>
              <a:t>g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CMMI7"/>
              </a:rPr>
              <a:t>i</a:t>
            </a:r>
            <a:r>
              <a:rPr b="0" lang="en-US" sz="1000" spc="-1" strike="noStrike">
                <a:solidFill>
                  <a:srgbClr val="000000"/>
                </a:solidFill>
                <a:latin typeface="CMMI10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V (s’) -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V(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lide points out that we must update the Q and V values for the overall POMD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 observations by sampling the POMDP model during exec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-actions perform better with increased grid-resolution in the dynamic grid model because you don’t have to generate so many grid-points when you are not limited to just primitive 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-actions perform better with increased grid-resolution in the dynamic grid model because you don’t have to generate so many grid-points when you aren’t limited to just primitive 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VA – soft max of the a vectors, update a vectors using gradient desc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number of free variables, local max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-based  - Optimize the value function only for certain points in the belief space; not all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-based dynamic program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choose beliefs? High dimension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 Car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 on samples of belief space, learn values.  Interpolate for arbitrary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parametric re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ationally difficult to learn poli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d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d space, regular grid spacing.  Dimensionality increases with grid re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 Resolution allows for zooming in on certain parts of belief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likeli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ume that the state is the most likely state, and perform corresponding MD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works if this is a good assumption.  Good for uncertainty due to bounded noise rather than uncertain state fea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Gath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able to learn about the state, because then it is easy to maximize the rew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erarchical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macro actions, split into top level POMDP and low level POMDP.  Less states, less compu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cy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the policy, not the value.  Optimize the policy di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lide demonstrates the discretization of a belief simp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possible to approximate solutions to a POMDP by solving an MDP that takes grid points as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rface of the triangle is the belief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d points are intersections of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“Time-extended” 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model Macro-actions in a POMDP framework?  We use SMDP’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erarchical structure grows polynomially, but this is an improvement over the otherwise exponential growth.  Smaller POMDP’s still grow expon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is the expected number of steps given by F for an upcoming macro-action, while K is the number of steps that have pa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lide shows a graphical overview of the presented algorith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is discretized to g.  Then a macro-action is simulated from g to b’’ repe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3BD7-0E53-41CB-8966-3EC87DE1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885-B3B4-4CC4-9DA2-77A7BE8B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3B12-F1E1-4D28-BB4C-5AAEACD3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B275-67D6-442B-9B2D-DE342FB4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E4E5-C161-4A3B-BA29-FF10D013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C363-2ADD-4631-80B4-15FA0215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F01B-39C3-4BB7-8F58-C416A732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7FC2-554B-49E7-AD7F-C2B936E3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DA69-52DA-4D0C-B5EB-F88AA136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32FE-990F-4B5F-9ACF-CFECDD28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3E14-F27D-41A5-BC89-6B0F97DD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38DC-6AAF-4A59-B589-82AF3E76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C9C3-4793-4BE6-BBA8-51327DE42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POMD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ion of POMD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ximating POMDPs with Macro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ief Compression using Grid Approxi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ro-Actions in the Semi-MDP’s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inforcement Learning using 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a current true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physical true location of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ize the current belief st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MMI7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closest grid-point in a regular discretization of the belief sp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MMI7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missing add it to the table of belief states to explicitly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olate its initial value from coarser re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the best macro-action from the current Q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actio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MR10"/>
              </a:rPr>
              <a:t>%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olate over the Q values of the vertices of the sub-simplex that contai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[R(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 (b’)]</a:t>
            </a:r>
            <a:r>
              <a:rPr b="0" lang="en-US" sz="2800" spc="-1" strike="noStrike">
                <a:solidFill>
                  <a:srgbClr val="000000"/>
                </a:solidFill>
                <a:latin typeface="CMR10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amp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a st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the current grid-belief st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ose primitive 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MMI10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rding to macro-actio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the next st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’</a:t>
            </a:r>
            <a:r>
              <a:rPr b="0" lang="en-US" sz="2000" spc="-1" strike="noStrike">
                <a:solidFill>
                  <a:srgbClr val="000000"/>
                </a:solidFill>
                <a:latin typeface="CMSY7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rom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e the reward and update the belief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 = t+1, b = b’, s = s’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repeat with next primitive action unt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erm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the value of the resulting belief st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polate over vertices in resulting belief sub-simp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 multiple times and average the est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the state action val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(1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q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R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(b’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the state val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argma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(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e the macro-ac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rting from the belief state until 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observations during exe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= b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s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o to ste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eat this learning epoch multiple times starting from the sa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e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ts of using dynamic grid-re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1068 world states and resolution of 4, number of grid poi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regular discret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000 with macro-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3500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e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ts of using macro-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fewer training steps per epis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s better with increased grid-resolution in the dynamic grid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quality policy over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ts of using reward-sha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cessful completion of test with macro-actions 90~9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~10% without reward-sha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Nex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le to solve POMDP’s with 1000+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generate a set of “good” macro-ac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research is focused on the dynamic generation of macro-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ion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-Based Approxi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e Carlo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d-Based Approxi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icy Heu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-Likelih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state is most-likely state, perform M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Gath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actions to reduce uncertain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erarchical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 problem into smaller POMD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e the policy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id Approxi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2895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62120" y="42667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426708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990360" y="32004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32004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990720" y="48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7080" y="2286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,1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39000" y="48006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,0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0400" y="48006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4724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0" y="4724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556272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u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2895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733920" y="42667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426708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962160" y="32004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32004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962520" y="48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68880" y="2286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,1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800" y="48006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,0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7440" y="48006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4724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4724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556272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ut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88080" y="2819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673680" y="419076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88080" y="41911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901920" y="312408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88080" y="312408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90228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09000" y="22096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,1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50920" y="47242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,0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9240" y="48006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12120" y="3048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2632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19792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556272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ution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26672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3962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4266720" y="4038120"/>
            <a:ext cx="3812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724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648320" y="403848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723852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62920" y="3886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4680" y="3886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7238520" y="3962520"/>
            <a:ext cx="381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4380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7620120" y="39625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086240" y="4343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102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1520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7086240" y="43434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238880" y="358128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848720" y="4343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7391160" y="358092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24680" y="4648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000640" y="43434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746712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15200" y="3505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3505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43800" y="3886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7480" y="4343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Grid Al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cate grid points from a uniformly spaced grid dynam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e trajectories of the agent through the belief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periencing belief sta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grid point closest to belief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it to set of grid points explicitly consi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set of grid points is small and adapted to parts of belief space typically inhabited by a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ro-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orally Extended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Down-Corr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-to-Chic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us primitive actions,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-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Step-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DP’s breakdown into a hierarchical structure of smaller POMDP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ro-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2666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0960" y="24382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8680" y="449568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2590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2666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2895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41911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352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3276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57800" y="2438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2362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2743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15200" y="2666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3048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352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49528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4419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47242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28" idx="6"/>
            <a:endCxn id="131" idx="3"/>
          </p:cNvCxnSpPr>
          <p:nvPr/>
        </p:nvCxnSpPr>
        <p:spPr>
          <a:xfrm flipV="1">
            <a:off x="2514600" y="2720520"/>
            <a:ext cx="327600" cy="2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1" idx="6"/>
            <a:endCxn id="132" idx="2"/>
          </p:cNvCxnSpPr>
          <p:nvPr/>
        </p:nvCxnSpPr>
        <p:spPr>
          <a:xfrm>
            <a:off x="2971440" y="2666880"/>
            <a:ext cx="30564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2" idx="5"/>
            <a:endCxn id="133" idx="1"/>
          </p:cNvCxnSpPr>
          <p:nvPr/>
        </p:nvCxnSpPr>
        <p:spPr>
          <a:xfrm>
            <a:off x="3406320" y="2796840"/>
            <a:ext cx="273960" cy="12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3" idx="5"/>
            <a:endCxn id="136" idx="1"/>
          </p:cNvCxnSpPr>
          <p:nvPr/>
        </p:nvCxnSpPr>
        <p:spPr>
          <a:xfrm>
            <a:off x="3787920" y="3025800"/>
            <a:ext cx="197280" cy="27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6" idx="6"/>
            <a:endCxn id="135" idx="2"/>
          </p:cNvCxnSpPr>
          <p:nvPr/>
        </p:nvCxnSpPr>
        <p:spPr>
          <a:xfrm>
            <a:off x="4114800" y="3352680"/>
            <a:ext cx="4579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35" idx="7"/>
            <a:endCxn id="141" idx="3"/>
          </p:cNvCxnSpPr>
          <p:nvPr/>
        </p:nvCxnSpPr>
        <p:spPr>
          <a:xfrm flipV="1">
            <a:off x="4702320" y="3025440"/>
            <a:ext cx="34992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1" idx="7"/>
            <a:endCxn id="137" idx="3"/>
          </p:cNvCxnSpPr>
          <p:nvPr/>
        </p:nvCxnSpPr>
        <p:spPr>
          <a:xfrm flipV="1">
            <a:off x="5159160" y="2568240"/>
            <a:ext cx="12132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39" idx="5"/>
            <a:endCxn id="143" idx="1"/>
          </p:cNvCxnSpPr>
          <p:nvPr/>
        </p:nvCxnSpPr>
        <p:spPr>
          <a:xfrm>
            <a:off x="6149520" y="2873160"/>
            <a:ext cx="27396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3" idx="7"/>
            <a:endCxn id="142" idx="2"/>
          </p:cNvCxnSpPr>
          <p:nvPr/>
        </p:nvCxnSpPr>
        <p:spPr>
          <a:xfrm flipV="1">
            <a:off x="6531120" y="3123360"/>
            <a:ext cx="32760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37" idx="7"/>
            <a:endCxn id="138" idx="2"/>
          </p:cNvCxnSpPr>
          <p:nvPr/>
        </p:nvCxnSpPr>
        <p:spPr>
          <a:xfrm flipV="1">
            <a:off x="5388120" y="2437920"/>
            <a:ext cx="327600" cy="2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38" idx="5"/>
            <a:endCxn id="139" idx="1"/>
          </p:cNvCxnSpPr>
          <p:nvPr/>
        </p:nvCxnSpPr>
        <p:spPr>
          <a:xfrm>
            <a:off x="5845320" y="2491920"/>
            <a:ext cx="19728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42" idx="7"/>
            <a:endCxn id="140" idx="3"/>
          </p:cNvCxnSpPr>
          <p:nvPr/>
        </p:nvCxnSpPr>
        <p:spPr>
          <a:xfrm flipV="1">
            <a:off x="6988320" y="2797200"/>
            <a:ext cx="349920" cy="27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34" idx="6"/>
            <a:endCxn id="144" idx="1"/>
          </p:cNvCxnSpPr>
          <p:nvPr/>
        </p:nvCxnSpPr>
        <p:spPr>
          <a:xfrm>
            <a:off x="2514240" y="4266720"/>
            <a:ext cx="1166040" cy="708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4" idx="5"/>
            <a:endCxn id="145" idx="3"/>
          </p:cNvCxnSpPr>
          <p:nvPr/>
        </p:nvCxnSpPr>
        <p:spPr>
          <a:xfrm flipH="1" flipV="1" rot="5400000">
            <a:off x="4266000" y="4069800"/>
            <a:ext cx="534240" cy="1492920"/>
          </a:xfrm>
          <a:prstGeom prst="curvedConnector5">
            <a:avLst>
              <a:gd name="adj1" fmla="val -46999"/>
              <a:gd name="adj2" fmla="val 50000"/>
              <a:gd name="adj3" fmla="val -4699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5" idx="7"/>
            <a:endCxn id="146" idx="3"/>
          </p:cNvCxnSpPr>
          <p:nvPr/>
        </p:nvCxnSpPr>
        <p:spPr>
          <a:xfrm flipH="1" rot="16200000">
            <a:off x="5851080" y="3977280"/>
            <a:ext cx="413640" cy="1340280"/>
          </a:xfrm>
          <a:prstGeom prst="curvedConnector5">
            <a:avLst>
              <a:gd name="adj1" fmla="val -60714"/>
              <a:gd name="adj2" fmla="val 24986"/>
              <a:gd name="adj3" fmla="val -60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46" idx="7"/>
          </p:cNvCxnSpPr>
          <p:nvPr/>
        </p:nvCxnSpPr>
        <p:spPr>
          <a:xfrm flipH="1" flipV="1" rot="5400000">
            <a:off x="6873480" y="4381200"/>
            <a:ext cx="327600" cy="403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Markov Decisio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as a five-tuple (S,A,P,R,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: finite set of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: set of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: state and action transition probability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: reward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: probability of transition time function for each state-action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s’, N|s,a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specifies the expected number of step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ll take to get to st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-learning rule for SMDP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,a) = (1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,a)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R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’,a’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2209680"/>
            <a:ext cx="68580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52480" y="510552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52480" y="3200400"/>
            <a:ext cx="68580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4114800"/>
            <a:ext cx="68580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’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00600" y="533412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38880" y="350532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304812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68" idx="4"/>
            <a:endCxn id="167" idx="0"/>
          </p:cNvCxnSpPr>
          <p:nvPr/>
        </p:nvCxnSpPr>
        <p:spPr>
          <a:xfrm>
            <a:off x="2095200" y="3885840"/>
            <a:ext cx="108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8" idx="7"/>
            <a:endCxn id="166" idx="2"/>
          </p:cNvCxnSpPr>
          <p:nvPr/>
        </p:nvCxnSpPr>
        <p:spPr>
          <a:xfrm flipH="1" flipV="1" rot="5400000">
            <a:off x="3881160" y="1009080"/>
            <a:ext cx="748440" cy="38343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7" idx="7"/>
            <a:endCxn id="169" idx="2"/>
          </p:cNvCxnSpPr>
          <p:nvPr/>
        </p:nvCxnSpPr>
        <p:spPr>
          <a:xfrm flipH="1" flipV="1" rot="5400000">
            <a:off x="3690720" y="3104640"/>
            <a:ext cx="748080" cy="345348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2" idx="5"/>
            <a:endCxn id="169" idx="1"/>
          </p:cNvCxnSpPr>
          <p:nvPr/>
        </p:nvCxnSpPr>
        <p:spPr>
          <a:xfrm>
            <a:off x="5310000" y="3633840"/>
            <a:ext cx="581400" cy="58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71" idx="3"/>
            <a:endCxn id="169" idx="6"/>
          </p:cNvCxnSpPr>
          <p:nvPr/>
        </p:nvCxnSpPr>
        <p:spPr>
          <a:xfrm flipH="1">
            <a:off x="6476760" y="4090680"/>
            <a:ext cx="862560" cy="36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0" idx="7"/>
            <a:endCxn id="169" idx="3"/>
          </p:cNvCxnSpPr>
          <p:nvPr/>
        </p:nvCxnSpPr>
        <p:spPr>
          <a:xfrm flipV="1">
            <a:off x="5386320" y="4699800"/>
            <a:ext cx="505440" cy="73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9T07:57:35Z</dcterms:created>
  <dc:creator>Tony</dc:creator>
  <dc:description/>
  <dc:language>en-US</dc:language>
  <cp:lastModifiedBy>Tony</cp:lastModifiedBy>
  <dcterms:modified xsi:type="dcterms:W3CDTF">2005-03-26T19:30:18Z</dcterms:modified>
  <cp:revision>85</cp:revision>
  <dc:subject/>
  <dc:title>POMDP’s with Macro-Actions</dc:title>
</cp:coreProperties>
</file>