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C5B2-A15C-46CE-936F-E3D13700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learning with a model is otherwise called Real Time Dynamic Programming (RT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-point has maximum barycentric coordinate, which is a 3 component coordinate system of a point in a triangle.  Creating three mini-triangles and the barycentric coordinate is the relation between the th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esolution is 1 initialize gi’s value to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&gt; expecte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(s,a,.) for 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a,s’,.) fo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e the rewar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(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:= R(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(s, 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use reward-shap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MMI7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:= R(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MMI7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 (s’)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points out that we must update the Q and V values for the overall POM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observations by sampling the POMDP model during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-actions perform better with increased grid-resolution in the dynamic grid model because you don’t have to generate so many grid-points when you are not limited to just primitive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-actions perform better with increased grid-resolution in the dynamic grid model because you don’t have to generate so many grid-points when you aren’t limited to just primitive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VA – soft max of the a vectors, update a vectors using gradient d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mber of free variables, local max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-based  - Optimize the value function only for certain points in the belief space; not all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-based dynamic program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choose beliefs? High dimens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 samples of belief space, learn values.  Interpolate for arbitrary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parametric re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ationally difficult to learn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space, regular grid spacing.  Dimensionality increases with grid re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Resolution allows for zooming in on certain parts of belief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likeli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state is the most likely state, and perform corresponding M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works if this is a good assumption.  Good for uncertainty due to bounded noise rather than uncertain state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G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able to learn about the state, because then it is easy to maximize the re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ic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macro actions, split into top level POMDP and low level POMDP.  Less states, less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policy, not the value.  Optimize the policy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demonstrates the discretization of a belief si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approximate solutions to a POMDP by solving an MDP that takes grid points a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triangle is the belief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points are intersections of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“Time-extended”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model Macro-actions in a POMDP framework?  We use SMDP’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ical structure grows polynomially, but this is an improvement over the otherwise exponential growth.  Smaller POMDP’s still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is the expected number of steps given by F for an upcoming macro-action, while K is the number of steps that hav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a graphical overview of the presented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is discretized to g.  Then a macro-action is simulated from g to b’’ repe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33D-50B6-4EAA-AABA-8D8DA2FE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7C1-04F8-4013-90A6-7E94295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DE1-6742-456D-A242-BC416B6C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6F3-9442-4782-AF08-C16705E1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2F7-829E-4253-A3A6-CA0A8D3E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ABD-F25C-4810-B336-8E3431F5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763-32AF-4B13-81E1-EAFD4C94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581-EBD9-450C-BF6E-4B64614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13F-6C15-4090-BBA0-893D58B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084-24BC-45E3-8472-D576319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F8E-D03B-4AE3-B805-13C1E80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040-3FFD-422C-87F3-04C99845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535-7A6D-43E0-B13F-04F55080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Compression using Grid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-Actions in the Semi-MDP’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 Learning using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current tru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physical true location of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the current belief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7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losest grid-point in a regular discretization of the belief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7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ssing add it to the table of belief states to explicitly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e its initial value from coarser re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best macro-action from the current Q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olate over the Q values of the vertices of the sub-simplex that conta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[R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(b’)]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amp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current grid-belief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primitive 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macro-ac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the next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2000" spc="-1" strike="noStrike">
                <a:solidFill>
                  <a:srgbClr val="000000"/>
                </a:solidFill>
                <a:latin typeface="CMSY7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the reward and update the belie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 = t+1, b = b’, s = s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repeat with next primitive action unt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rm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value of the resulting belief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e over vertices in resulting belief sub-si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multiple times and average the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state action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R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(b’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stat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rg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the macro-a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rting from the belief state until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bservations duri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o to 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this learning epoch multiple times starting from the sa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dynamic grid-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1068 world states and resolution of 4, number of grid po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gular discr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00 with macro-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3500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macro-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ewer training steps per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better with increased grid-resolution in the dynamic gri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quality policy 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reward-sha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completion of test with macro-actions 90~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~10% without reward-sha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olve POMDP’s with 1000+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generate a set of “good” macro-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research is focused on the dynamic generation of macro-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-Based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-Based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Heu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tate is most-likely state, perform M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ctions to reduce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problem into smaller POMD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he policy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id Approx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4266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2670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907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080" y="2286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900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4800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4266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2670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6216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625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8880" y="2286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80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744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880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673680" y="41907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8080" y="41911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901920" y="312408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080" y="312408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022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09000" y="2209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50920" y="47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924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21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6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97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6672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66720" y="403812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48320" y="40384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3852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238520" y="39625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620120" y="3962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08624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2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35812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8487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391160" y="35809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0006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6712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3505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Grid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grid points from a uniformly spaced grid dyna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 trajectories of the agent through the belief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periencing belief st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grid point closest to belie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it to set of grid points explicitly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set of grid points is small and adapted to parts of belief space typically inhabited by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-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ly Extende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Down-C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-to-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 primitive actions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-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ep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DP’s breakdown into a hierarchical structure of smaller POMD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-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24382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8680" y="4495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724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28" idx="6"/>
            <a:endCxn id="131" idx="3"/>
          </p:cNvCxnSpPr>
          <p:nvPr/>
        </p:nvCxnSpPr>
        <p:spPr>
          <a:xfrm flipV="1">
            <a:off x="2514600" y="2720520"/>
            <a:ext cx="32760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1" idx="6"/>
            <a:endCxn id="132" idx="2"/>
          </p:cNvCxnSpPr>
          <p:nvPr/>
        </p:nvCxnSpPr>
        <p:spPr>
          <a:xfrm>
            <a:off x="2971440" y="266688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2" idx="5"/>
            <a:endCxn id="133" idx="1"/>
          </p:cNvCxnSpPr>
          <p:nvPr/>
        </p:nvCxnSpPr>
        <p:spPr>
          <a:xfrm>
            <a:off x="3406320" y="2796840"/>
            <a:ext cx="27396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3" idx="5"/>
            <a:endCxn id="136" idx="1"/>
          </p:cNvCxnSpPr>
          <p:nvPr/>
        </p:nvCxnSpPr>
        <p:spPr>
          <a:xfrm>
            <a:off x="3787920" y="3025800"/>
            <a:ext cx="1972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6"/>
            <a:endCxn id="135" idx="2"/>
          </p:cNvCxnSpPr>
          <p:nvPr/>
        </p:nvCxnSpPr>
        <p:spPr>
          <a:xfrm>
            <a:off x="4114800" y="3352680"/>
            <a:ext cx="457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5" idx="7"/>
            <a:endCxn id="141" idx="3"/>
          </p:cNvCxnSpPr>
          <p:nvPr/>
        </p:nvCxnSpPr>
        <p:spPr>
          <a:xfrm flipV="1">
            <a:off x="4702320" y="302544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1" idx="7"/>
            <a:endCxn id="137" idx="3"/>
          </p:cNvCxnSpPr>
          <p:nvPr/>
        </p:nvCxnSpPr>
        <p:spPr>
          <a:xfrm flipV="1">
            <a:off x="5159160" y="2568240"/>
            <a:ext cx="1213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9" idx="5"/>
            <a:endCxn id="143" idx="1"/>
          </p:cNvCxnSpPr>
          <p:nvPr/>
        </p:nvCxnSpPr>
        <p:spPr>
          <a:xfrm>
            <a:off x="6149520" y="2873160"/>
            <a:ext cx="2739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7"/>
            <a:endCxn id="142" idx="2"/>
          </p:cNvCxnSpPr>
          <p:nvPr/>
        </p:nvCxnSpPr>
        <p:spPr>
          <a:xfrm flipV="1">
            <a:off x="6531120" y="3123360"/>
            <a:ext cx="3276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7" idx="7"/>
            <a:endCxn id="138" idx="2"/>
          </p:cNvCxnSpPr>
          <p:nvPr/>
        </p:nvCxnSpPr>
        <p:spPr>
          <a:xfrm flipV="1">
            <a:off x="5388120" y="2437920"/>
            <a:ext cx="32760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8" idx="5"/>
            <a:endCxn id="139" idx="1"/>
          </p:cNvCxnSpPr>
          <p:nvPr/>
        </p:nvCxnSpPr>
        <p:spPr>
          <a:xfrm>
            <a:off x="5845320" y="2491920"/>
            <a:ext cx="19728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2" idx="7"/>
            <a:endCxn id="140" idx="3"/>
          </p:cNvCxnSpPr>
          <p:nvPr/>
        </p:nvCxnSpPr>
        <p:spPr>
          <a:xfrm flipV="1">
            <a:off x="6988320" y="2797200"/>
            <a:ext cx="34992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4" idx="6"/>
            <a:endCxn id="144" idx="1"/>
          </p:cNvCxnSpPr>
          <p:nvPr/>
        </p:nvCxnSpPr>
        <p:spPr>
          <a:xfrm>
            <a:off x="2514240" y="4266720"/>
            <a:ext cx="1166040" cy="70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4" idx="5"/>
            <a:endCxn id="145" idx="3"/>
          </p:cNvCxnSpPr>
          <p:nvPr/>
        </p:nvCxnSpPr>
        <p:spPr>
          <a:xfrm flipH="1" flipV="1" rot="5400000">
            <a:off x="4266000" y="4069800"/>
            <a:ext cx="534240" cy="1492920"/>
          </a:xfrm>
          <a:prstGeom prst="curvedConnector5">
            <a:avLst>
              <a:gd name="adj1" fmla="val -46999"/>
              <a:gd name="adj2" fmla="val 50000"/>
              <a:gd name="adj3" fmla="val -469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5" idx="7"/>
            <a:endCxn id="146" idx="3"/>
          </p:cNvCxnSpPr>
          <p:nvPr/>
        </p:nvCxnSpPr>
        <p:spPr>
          <a:xfrm flipH="1" rot="16200000">
            <a:off x="5851080" y="3977280"/>
            <a:ext cx="413640" cy="1340280"/>
          </a:xfrm>
          <a:prstGeom prst="curvedConnector5">
            <a:avLst>
              <a:gd name="adj1" fmla="val -60714"/>
              <a:gd name="adj2" fmla="val 24986"/>
              <a:gd name="adj3" fmla="val -60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6" idx="7"/>
          </p:cNvCxnSpPr>
          <p:nvPr/>
        </p:nvCxnSpPr>
        <p:spPr>
          <a:xfrm flipH="1" flipV="1" rot="5400000">
            <a:off x="6873480" y="4381200"/>
            <a:ext cx="327600" cy="403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Markov Decis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as a five-tuple (S,A,P,R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: 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set of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: state and action transition probabilit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: rewar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: probability of transition time function for each state-action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s’, N|s,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specifies the expected number of ste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take to get to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-learning rule for SMD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,a) =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,a)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’,a’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22096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51055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20040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11480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5053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0481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8" idx="4"/>
            <a:endCxn id="167" idx="0"/>
          </p:cNvCxnSpPr>
          <p:nvPr/>
        </p:nvCxnSpPr>
        <p:spPr>
          <a:xfrm>
            <a:off x="2095200" y="388584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8" idx="7"/>
            <a:endCxn id="166" idx="2"/>
          </p:cNvCxnSpPr>
          <p:nvPr/>
        </p:nvCxnSpPr>
        <p:spPr>
          <a:xfrm flipH="1" flipV="1" rot="5400000">
            <a:off x="3881160" y="1009080"/>
            <a:ext cx="748440" cy="3834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7"/>
            <a:endCxn id="169" idx="2"/>
          </p:cNvCxnSpPr>
          <p:nvPr/>
        </p:nvCxnSpPr>
        <p:spPr>
          <a:xfrm flipH="1" flipV="1" rot="5400000">
            <a:off x="3690720" y="3104640"/>
            <a:ext cx="748080" cy="34534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5"/>
            <a:endCxn id="169" idx="1"/>
          </p:cNvCxnSpPr>
          <p:nvPr/>
        </p:nvCxnSpPr>
        <p:spPr>
          <a:xfrm>
            <a:off x="5310000" y="3633840"/>
            <a:ext cx="58140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3"/>
            <a:endCxn id="169" idx="6"/>
          </p:cNvCxnSpPr>
          <p:nvPr/>
        </p:nvCxnSpPr>
        <p:spPr>
          <a:xfrm flipH="1">
            <a:off x="6476760" y="4090680"/>
            <a:ext cx="86256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7"/>
            <a:endCxn id="169" idx="3"/>
          </p:cNvCxnSpPr>
          <p:nvPr/>
        </p:nvCxnSpPr>
        <p:spPr>
          <a:xfrm flipV="1">
            <a:off x="5386320" y="4699800"/>
            <a:ext cx="50544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7:57:35Z</dcterms:created>
  <dc:creator>Tony</dc:creator>
  <dc:description/>
  <dc:language>en-US</dc:language>
  <cp:lastModifiedBy>Tony</cp:lastModifiedBy>
  <dcterms:modified xsi:type="dcterms:W3CDTF">2005-03-26T19:30:18Z</dcterms:modified>
  <cp:revision>85</cp:revision>
  <dc:subject/>
  <dc:title>POMDP’s with Macro-Actions</dc:title>
</cp:coreProperties>
</file>