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911-DE3D-433B-8345-53D60502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6F6-9C9F-4269-8605-EE5B80BF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9A1-B3D1-4CF2-BCE6-F3D1F0AF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DBC-7656-4995-B83F-5F2CF50C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E44-88B5-4740-BA61-F6FE36F1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CF9-6E43-40F1-B962-82CDA9DD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F4E-37F2-4D02-BAC8-FA1A0882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776-62FC-4309-ADC8-68A72A0F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964-B5C7-4DC7-BEC0-A668E918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5BC-443F-45D4-BA9E-BF55CE16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BEE-D9C2-423C-8376-5E4A35A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589-4DEC-4FEA-A0CC-17E9EE14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69E8-E26D-4EA5-9B1C-69EFD1A42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D color filter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8195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28195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28195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8195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8195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28195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195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28195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8195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8195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8195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8195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32004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2004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32004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2004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2004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2004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32004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32004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2004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2004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2004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35812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5812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5812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5812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35812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5812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5812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9625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39625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39625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39625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9625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9625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39625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9625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39625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39625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39625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9625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43434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43434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43434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43434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3434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3434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43434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43434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43434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3434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43434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43434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47242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47242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47242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47242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47242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7242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47242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47242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7242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7242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7242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47242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2280" y="26668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use of color m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3623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3623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3623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3623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23623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23623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23623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3623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3623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3623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3623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3623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27432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7432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7432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7432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7432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27432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7432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7432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7432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7432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7432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27432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1240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31240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31240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1240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31240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31240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31240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31240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1240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1240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1240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31240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5053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5053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5053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5053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35053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35053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5053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5053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35053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3505320"/>
            <a:ext cx="304920" cy="30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350532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505320"/>
            <a:ext cx="30492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38862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38862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8862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38862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38862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8862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38862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8862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8862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388620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38862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38862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42670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42670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2670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42670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2670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42670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42670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42670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4267080"/>
            <a:ext cx="30492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426708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2670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09680" y="2438280"/>
            <a:ext cx="5867280" cy="3124440"/>
            <a:chOff x="2209680" y="2438280"/>
            <a:chExt cx="5867280" cy="3124440"/>
          </a:xfrm>
        </p:grpSpPr>
        <p:sp>
          <p:nvSpPr>
            <p:cNvPr id="189" name=""/>
            <p:cNvSpPr/>
            <p:nvPr/>
          </p:nvSpPr>
          <p:spPr>
            <a:xfrm flipV="1">
              <a:off x="2209680" y="2438280"/>
              <a:ext cx="4831920" cy="2466720"/>
            </a:xfrm>
            <a:prstGeom prst="line">
              <a:avLst/>
            </a:prstGeom>
            <a:ln w="177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554560" y="2657160"/>
              <a:ext cx="4832280" cy="2466720"/>
            </a:xfrm>
            <a:prstGeom prst="line">
              <a:avLst/>
            </a:prstGeom>
            <a:ln w="177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899800" y="2876400"/>
              <a:ext cx="4831920" cy="2466720"/>
            </a:xfrm>
            <a:prstGeom prst="line">
              <a:avLst/>
            </a:prstGeom>
            <a:ln w="177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245040" y="3096000"/>
              <a:ext cx="4831920" cy="2466720"/>
            </a:xfrm>
            <a:prstGeom prst="line">
              <a:avLst/>
            </a:prstGeom>
            <a:ln w="177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065960" y="22860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0040" y="533412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black and white detail in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-interpreted as color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1599840"/>
            <a:ext cx="5867280" cy="3124080"/>
            <a:chOff x="838080" y="1599840"/>
            <a:chExt cx="5867280" cy="3124080"/>
          </a:xfrm>
        </p:grpSpPr>
        <p:sp>
          <p:nvSpPr>
            <p:cNvPr id="196" name=""/>
            <p:cNvSpPr/>
            <p:nvPr/>
          </p:nvSpPr>
          <p:spPr>
            <a:xfrm flipV="1">
              <a:off x="838080" y="1599840"/>
              <a:ext cx="4831920" cy="2466360"/>
            </a:xfrm>
            <a:prstGeom prst="line">
              <a:avLst/>
            </a:prstGeom>
            <a:ln w="177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182960" y="1818720"/>
              <a:ext cx="4832280" cy="2466360"/>
            </a:xfrm>
            <a:prstGeom prst="line">
              <a:avLst/>
            </a:prstGeom>
            <a:ln w="177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528200" y="2037960"/>
              <a:ext cx="4831920" cy="2466360"/>
            </a:xfrm>
            <a:prstGeom prst="line">
              <a:avLst/>
            </a:prstGeom>
            <a:ln w="177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873440" y="2257560"/>
              <a:ext cx="4831920" cy="2466360"/>
            </a:xfrm>
            <a:prstGeom prst="line">
              <a:avLst/>
            </a:prstGeom>
            <a:ln w="177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 and white edge falling on color CCD det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4038480"/>
            <a:ext cx="3657600" cy="304560"/>
            <a:chOff x="4495680" y="4038480"/>
            <a:chExt cx="3657600" cy="304560"/>
          </a:xfrm>
        </p:grpSpPr>
        <p:sp>
          <p:nvSpPr>
            <p:cNvPr id="202" name=""/>
            <p:cNvSpPr/>
            <p:nvPr/>
          </p:nvSpPr>
          <p:spPr>
            <a:xfrm>
              <a:off x="4495680" y="403848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0600" y="40384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05160" y="4038480"/>
              <a:ext cx="304920" cy="304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0080" y="403848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384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560" y="4038480"/>
              <a:ext cx="304920" cy="304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24480" y="403848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0384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3960" y="4038480"/>
              <a:ext cx="304920" cy="304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38880" y="403848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3800" y="40384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8360" y="4038480"/>
              <a:ext cx="304920" cy="304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495680" y="38098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72200" y="289548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4200" y="304812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ack and white image (ed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5760" y="396252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or pixel col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 sampling arti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2760" y="3429000"/>
            <a:ext cx="34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olated pixel colo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grey edge falling on col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ors (linear interpol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724280" y="4419720"/>
            <a:ext cx="3657600" cy="1218600"/>
            <a:chOff x="4724280" y="4419720"/>
            <a:chExt cx="3657600" cy="1218600"/>
          </a:xfrm>
        </p:grpSpPr>
        <p:sp>
          <p:nvSpPr>
            <p:cNvPr id="222" name=""/>
            <p:cNvSpPr/>
            <p:nvPr/>
          </p:nvSpPr>
          <p:spPr>
            <a:xfrm>
              <a:off x="4724280" y="533376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533376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441972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7480" y="441972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48520" y="4724280"/>
              <a:ext cx="304560" cy="304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3600" y="502884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4120" y="5333760"/>
              <a:ext cx="30456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29200" y="533376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0" y="441972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2920" y="4419720"/>
              <a:ext cx="30456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2400" y="4419720"/>
              <a:ext cx="30492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77320" y="4419720"/>
              <a:ext cx="30456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800600" y="4572000"/>
            <a:ext cx="3657600" cy="1219320"/>
            <a:chOff x="4800600" y="4572000"/>
            <a:chExt cx="3657600" cy="1219320"/>
          </a:xfrm>
        </p:grpSpPr>
        <p:sp>
          <p:nvSpPr>
            <p:cNvPr id="235" name=""/>
            <p:cNvSpPr/>
            <p:nvPr/>
          </p:nvSpPr>
          <p:spPr>
            <a:xfrm>
              <a:off x="5105520" y="548640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19920" y="548640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457200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48720" y="457200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24840" y="518148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48769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548640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10440" y="548640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548640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9240" y="457200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43800" y="457200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53640" y="457200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876920" y="4724280"/>
            <a:ext cx="3657600" cy="1219320"/>
            <a:chOff x="4876920" y="4724280"/>
            <a:chExt cx="3657600" cy="1219320"/>
          </a:xfrm>
        </p:grpSpPr>
        <p:sp>
          <p:nvSpPr>
            <p:cNvPr id="248" name=""/>
            <p:cNvSpPr/>
            <p:nvPr/>
          </p:nvSpPr>
          <p:spPr>
            <a:xfrm>
              <a:off x="5486760" y="5638680"/>
              <a:ext cx="30456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1160" y="5638680"/>
              <a:ext cx="30456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15560" y="4724280"/>
              <a:ext cx="30456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29960" y="4724280"/>
              <a:ext cx="30456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05720" y="5333760"/>
              <a:ext cx="30492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0640" y="5029200"/>
              <a:ext cx="304920" cy="304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6240" y="5638680"/>
              <a:ext cx="30492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638680"/>
              <a:ext cx="30492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81840" y="5638680"/>
              <a:ext cx="30492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6920" y="5638680"/>
              <a:ext cx="30492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0120" y="4724280"/>
              <a:ext cx="30492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25040" y="4724280"/>
              <a:ext cx="304920" cy="304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72000" y="2743200"/>
            <a:ext cx="3657600" cy="1219320"/>
            <a:chOff x="4572000" y="2743200"/>
            <a:chExt cx="3657600" cy="1219320"/>
          </a:xfrm>
        </p:grpSpPr>
        <p:sp>
          <p:nvSpPr>
            <p:cNvPr id="261" name=""/>
            <p:cNvSpPr/>
            <p:nvPr/>
          </p:nvSpPr>
          <p:spPr>
            <a:xfrm>
              <a:off x="4572000" y="3657600"/>
              <a:ext cx="30492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86400" y="3657600"/>
              <a:ext cx="30492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00800" y="2743200"/>
              <a:ext cx="30492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15200" y="2743200"/>
              <a:ext cx="30492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96240" y="3048120"/>
              <a:ext cx="304560" cy="304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1320" y="3352680"/>
              <a:ext cx="30492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1840" y="3657600"/>
              <a:ext cx="30456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76920" y="3657600"/>
              <a:ext cx="30492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05720" y="2743200"/>
              <a:ext cx="30492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0640" y="2743200"/>
              <a:ext cx="30456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20120" y="2743200"/>
              <a:ext cx="30492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25040" y="2743200"/>
              <a:ext cx="304560" cy="304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876920" y="36576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36576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2743200"/>
            <a:ext cx="30456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0120" y="2743200"/>
            <a:ext cx="3045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3352680"/>
            <a:ext cx="3049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3048120"/>
            <a:ext cx="3049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3657600"/>
            <a:ext cx="3049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3657600"/>
            <a:ext cx="3049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657600"/>
            <a:ext cx="3049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2743200"/>
            <a:ext cx="3049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2743200"/>
            <a:ext cx="3049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24680" y="2743200"/>
            <a:ext cx="3049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365760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102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46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3048120"/>
            <a:ext cx="30456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657600"/>
            <a:ext cx="304560" cy="304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01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572000" y="2895480"/>
            <a:ext cx="3580920" cy="914400"/>
            <a:chOff x="4572000" y="2895480"/>
            <a:chExt cx="3580920" cy="914400"/>
          </a:xfrm>
        </p:grpSpPr>
        <p:sp>
          <p:nvSpPr>
            <p:cNvPr id="298" name=""/>
            <p:cNvSpPr/>
            <p:nvPr/>
          </p:nvSpPr>
          <p:spPr>
            <a:xfrm flipV="1">
              <a:off x="6248160" y="2895480"/>
              <a:ext cx="30456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2895480"/>
              <a:ext cx="159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380988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olor moire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1819440"/>
          <a:ext cx="5181480" cy="45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9440"/>
                    <a:ext cx="518148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6077880" y="2403360"/>
            <a:ext cx="308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-up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.  Notice sp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s in the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fine detail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9:48:21Z</dcterms:created>
  <dc:creator>wtf</dc:creator>
  <dc:description/>
  <dc:language>en-US</dc:language>
  <cp:lastModifiedBy>wtf</cp:lastModifiedBy>
  <dcterms:modified xsi:type="dcterms:W3CDTF">2002-08-29T19:48:49Z</dcterms:modified>
  <cp:revision>1</cp:revision>
  <dc:subject/>
  <dc:title> CCD color filter pattern</dc:title>
</cp:coreProperties>
</file>