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3.png" ContentType="image/png"/>
  <Override PartName="/ppt/media/image50.pct" ContentType="image/x-pict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462-5102-4855-8721-B5CFA99F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389-E84D-4AE1-99BC-A02FE6D1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BC3-9775-4A95-9441-94989E78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876-CB69-4144-8A99-A302695C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9DCB-56FF-49BF-8463-5A47E759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D3BE-7843-470A-8168-D8B6FE9A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4741-157F-401D-AF93-41057F61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C831-EA96-458C-B6F5-0C7DD9E0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3708-A558-4F4B-8C26-C3BF4C01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70080" y="28080"/>
            <a:ext cx="776448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F27F-55A9-4EEF-A0A2-5890DB23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E064-F554-4141-AEED-C7B0D5B2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EF9-E115-4808-8D48-8996B812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41B8-184D-4452-89EA-B60CE3B4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98DF-D4AA-421A-B0E2-8AF4A8B9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8B4C-FA1C-49A4-8908-C24FE476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94E3-2344-4BE7-89B6-077671DD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8F13-E96F-48DB-87AF-E28168D3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A140-1A0D-4488-B6A0-5B6556E3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D7B6E-B269-49F4-BA70-9C4985A3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45761-5C74-4566-8347-ABE83BAF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71774-4F86-46D6-A1B5-E28FFF3A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F033-3A1B-4D1D-B6E7-B304EEC7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96B-EE72-4C64-9545-35F0FCB7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70080" y="28080"/>
            <a:ext cx="776448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8696-6BDF-4DAC-8100-95A00D85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12864-EF64-4045-923B-BB2FD0A1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319D-8ABA-4B38-8A8F-AA123470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3842-9166-492D-A730-AB8051D3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CF852-757D-4DAA-8634-B73AF190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88546-88BC-4720-A94F-8DAC1197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30C9-96DF-4ADF-8458-C4C41467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CFB-79EF-4EE6-B18F-D7C055C0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0D1-D884-400A-8BE5-CE8FD95D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0080" y="28080"/>
            <a:ext cx="776448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8AA-3B00-49B5-B495-D88A1258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519-FEB6-4CDB-8194-36E2F4D5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F3E-4772-47A1-9376-8F3CEF53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1D3-C05F-492C-A72A-C5F1579C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2B519-9362-4A3A-8614-C0A4FD8D70E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EA701-2F8F-4F2C-B3E5-9534C62CF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logo-2C-full-mac [Converted].png"/>
          <p:cNvPicPr/>
          <p:nvPr/>
        </p:nvPicPr>
        <p:blipFill>
          <a:blip r:embed="rId2"/>
          <a:stretch/>
        </p:blipFill>
        <p:spPr>
          <a:xfrm>
            <a:off x="142920" y="2587680"/>
            <a:ext cx="1413000" cy="1082520"/>
          </a:xfrm>
          <a:prstGeom prst="rect">
            <a:avLst/>
          </a:prstGeom>
          <a:ln w="0">
            <a:noFill/>
          </a:ln>
        </p:spPr>
      </p:pic>
      <p:grpSp>
        <p:nvGrpSpPr>
          <p:cNvPr id="42" name="Rectangle 7"/>
          <p:cNvGrpSpPr/>
          <p:nvPr/>
        </p:nvGrpSpPr>
        <p:grpSpPr>
          <a:xfrm>
            <a:off x="1365120" y="3121200"/>
            <a:ext cx="7334280" cy="145800"/>
            <a:chOff x="1365120" y="3121200"/>
            <a:chExt cx="7334280" cy="145800"/>
          </a:xfrm>
        </p:grpSpPr>
        <p:pic>
          <p:nvPicPr>
            <p:cNvPr id="43" name="Rectangle 7" descr=""/>
            <p:cNvPicPr/>
            <p:nvPr/>
          </p:nvPicPr>
          <p:blipFill>
            <a:blip r:embed="rId3"/>
            <a:stretch/>
          </p:blipFill>
          <p:spPr>
            <a:xfrm>
              <a:off x="1365120" y="3121200"/>
              <a:ext cx="7334280" cy="1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371600" y="3129120"/>
              <a:ext cx="73245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" name="Picture 8" descr="mitcsail.png"/>
          <p:cNvPicPr/>
          <p:nvPr/>
        </p:nvPicPr>
        <p:blipFill>
          <a:blip r:embed="rId4"/>
          <a:stretch/>
        </p:blipFill>
        <p:spPr>
          <a:xfrm>
            <a:off x="2070000" y="3282840"/>
            <a:ext cx="6794640" cy="158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CD4FA-FEBC-4C24-AE62-624AC020B1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12EEB-83EE-4F8B-BA6A-23B1DA2C4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1749600" y="969840"/>
            <a:ext cx="7338960" cy="139680"/>
            <a:chOff x="1749600" y="969840"/>
            <a:chExt cx="7338960" cy="139680"/>
          </a:xfrm>
        </p:grpSpPr>
        <p:pic>
          <p:nvPicPr>
            <p:cNvPr id="88" name="Rectangle 6" descr=""/>
            <p:cNvPicPr/>
            <p:nvPr/>
          </p:nvPicPr>
          <p:blipFill>
            <a:blip r:embed="rId2"/>
            <a:stretch/>
          </p:blipFill>
          <p:spPr>
            <a:xfrm>
              <a:off x="1749600" y="969840"/>
              <a:ext cx="7338960" cy="1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758960" y="973080"/>
              <a:ext cx="732312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Picture 7" descr="logo-2C-full-mac [Converted].png"/>
          <p:cNvPicPr/>
          <p:nvPr/>
        </p:nvPicPr>
        <p:blipFill>
          <a:blip r:embed="rId3"/>
          <a:stretch/>
        </p:blipFill>
        <p:spPr>
          <a:xfrm>
            <a:off x="61920" y="61920"/>
            <a:ext cx="1413000" cy="1082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34757-EDD3-4E06-9D04-2DADD95E5A9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F2E9B-E870-4D3B-9211-B2AF23A1C4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ct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52320" y="1373040"/>
            <a:ext cx="7305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libri"/>
              </a:rPr>
              <a:t>MCMC Sampling with</a:t>
            </a:r>
            <a:br>
              <a:rPr sz="4000"/>
            </a:br>
            <a:r>
              <a:rPr b="0" lang="en-US" sz="4000" spc="-1" strike="noStrike">
                <a:solidFill>
                  <a:srgbClr val="595959"/>
                </a:solidFill>
                <a:latin typeface="Calibri"/>
              </a:rPr>
              <a:t>Implicit Shape Representations</a:t>
            </a:r>
            <a:endParaRPr b="0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77156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Jason Cha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Joint work with John W. Fisher II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ssachusetts Institute of Technolo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ril 21, 20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Mixing Rate Comparison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97" name="afs:csail.mit.edu:u:j:jchang7:public:eccv:mixing_rate.mp4" descr=""/>
          <p:cNvPicPr/>
          <p:nvPr/>
        </p:nvPicPr>
        <p:blipFill>
          <a:blip r:embed="rId1"/>
          <a:stretch/>
        </p:blipFill>
        <p:spPr>
          <a:xfrm>
            <a:off x="54000" y="1508040"/>
            <a:ext cx="9036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ant to incorporate the 3D structure of the salt dome into the sampling of successive fra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Dynamics of Curves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200" name="Picture 6" descr="seismic_000460.png"/>
          <p:cNvPicPr/>
          <p:nvPr/>
        </p:nvPicPr>
        <p:blipFill>
          <a:blip r:embed="rId1"/>
          <a:stretch/>
        </p:blipFill>
        <p:spPr>
          <a:xfrm>
            <a:off x="3247920" y="2908440"/>
            <a:ext cx="2649600" cy="2690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seismic_000480.png"/>
          <p:cNvPicPr/>
          <p:nvPr/>
        </p:nvPicPr>
        <p:blipFill>
          <a:blip r:embed="rId2"/>
          <a:stretch/>
        </p:blipFill>
        <p:spPr>
          <a:xfrm>
            <a:off x="6041880" y="2908440"/>
            <a:ext cx="2649600" cy="2690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seismic_000440.png"/>
          <p:cNvPicPr/>
          <p:nvPr/>
        </p:nvPicPr>
        <p:blipFill>
          <a:blip r:embed="rId3"/>
          <a:stretch/>
        </p:blipFill>
        <p:spPr>
          <a:xfrm>
            <a:off x="457200" y="2908440"/>
            <a:ext cx="26496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Dynamics of Curves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could use Symmetric Area Difference (SAD) as a prior on future fra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5" descr="graphical_model.pdf"/>
          <p:cNvPicPr/>
          <p:nvPr/>
        </p:nvPicPr>
        <p:blipFill>
          <a:blip r:embed="rId1"/>
          <a:stretch/>
        </p:blipFill>
        <p:spPr>
          <a:xfrm>
            <a:off x="3568680" y="2054160"/>
            <a:ext cx="228600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4514760" y="3346560"/>
          <a:ext cx="114480" cy="16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3346560"/>
                    <a:ext cx="11448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Box 7"/>
          <p:cNvSpPr/>
          <p:nvPr/>
        </p:nvSpPr>
        <p:spPr>
          <a:xfrm>
            <a:off x="173160" y="6043680"/>
            <a:ext cx="897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We use the notation        and        interchangeably because a level set function defines a cur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responds to the label assigned to pixel      in 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8" descr="latex-image-1.pdf"/>
          <p:cNvPicPr/>
          <p:nvPr/>
        </p:nvPicPr>
        <p:blipFill>
          <a:blip r:embed="rId4"/>
          <a:stretch/>
        </p:blipFill>
        <p:spPr>
          <a:xfrm>
            <a:off x="2451240" y="6132600"/>
            <a:ext cx="160200" cy="21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latex-image-1.pdf"/>
          <p:cNvPicPr/>
          <p:nvPr/>
        </p:nvPicPr>
        <p:blipFill>
          <a:blip r:embed="rId5"/>
          <a:stretch/>
        </p:blipFill>
        <p:spPr>
          <a:xfrm>
            <a:off x="3198960" y="6149880"/>
            <a:ext cx="172800" cy="203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latex-image-13.pdf"/>
          <p:cNvPicPr/>
          <p:nvPr/>
        </p:nvPicPr>
        <p:blipFill>
          <a:blip r:embed="rId6"/>
          <a:stretch/>
        </p:blipFill>
        <p:spPr>
          <a:xfrm>
            <a:off x="2730600" y="4473720"/>
            <a:ext cx="3797280" cy="291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latex-image-1.pdf"/>
          <p:cNvPicPr/>
          <p:nvPr/>
        </p:nvPicPr>
        <p:blipFill>
          <a:blip r:embed="rId7"/>
          <a:stretch/>
        </p:blipFill>
        <p:spPr>
          <a:xfrm>
            <a:off x="457200" y="6397560"/>
            <a:ext cx="343080" cy="292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latex-image-1.pdf"/>
          <p:cNvPicPr/>
          <p:nvPr/>
        </p:nvPicPr>
        <p:blipFill>
          <a:blip r:embed="rId8"/>
          <a:stretch/>
        </p:blipFill>
        <p:spPr>
          <a:xfrm>
            <a:off x="4883040" y="6431040"/>
            <a:ext cx="88920" cy="203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latex-image-1.pdf"/>
          <p:cNvPicPr/>
          <p:nvPr/>
        </p:nvPicPr>
        <p:blipFill>
          <a:blip r:embed="rId9"/>
          <a:stretch/>
        </p:blipFill>
        <p:spPr>
          <a:xfrm>
            <a:off x="5904000" y="6435720"/>
            <a:ext cx="127080" cy="254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latex-image-15.pdf"/>
          <p:cNvPicPr/>
          <p:nvPr/>
        </p:nvPicPr>
        <p:blipFill>
          <a:blip r:embed="rId10"/>
          <a:stretch/>
        </p:blipFill>
        <p:spPr>
          <a:xfrm>
            <a:off x="1574640" y="5002200"/>
            <a:ext cx="5880240" cy="86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latex-image-14.pdf"/>
          <p:cNvPicPr/>
          <p:nvPr/>
        </p:nvPicPr>
        <p:blipFill>
          <a:blip r:embed="rId11"/>
          <a:stretch/>
        </p:blipFill>
        <p:spPr>
          <a:xfrm>
            <a:off x="1193760" y="3511440"/>
            <a:ext cx="6642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Sampling Dynamics on Curves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stings Ratio requires calculating the energy at every s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typically have over 1000 previous samples. Thus, calculating the SAD term can become computationally inten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latex-image-15.pdf"/>
          <p:cNvPicPr/>
          <p:nvPr/>
        </p:nvPicPr>
        <p:blipFill>
          <a:blip r:embed="rId1"/>
          <a:stretch/>
        </p:blipFill>
        <p:spPr>
          <a:xfrm>
            <a:off x="1574640" y="1865160"/>
            <a:ext cx="5880240" cy="863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latex-image-16.pdf"/>
          <p:cNvPicPr/>
          <p:nvPr/>
        </p:nvPicPr>
        <p:blipFill>
          <a:blip r:embed="rId2"/>
          <a:stretch/>
        </p:blipFill>
        <p:spPr>
          <a:xfrm>
            <a:off x="952560" y="4354560"/>
            <a:ext cx="7340400" cy="863640"/>
          </a:xfrm>
          <a:prstGeom prst="rect">
            <a:avLst/>
          </a:prstGeom>
          <a:ln w="0">
            <a:noFill/>
          </a:ln>
        </p:spPr>
      </p:pic>
      <p:sp>
        <p:nvSpPr>
          <p:cNvPr id="221" name="Left Brace 9"/>
          <p:cNvSpPr/>
          <p:nvPr/>
        </p:nvSpPr>
        <p:spPr>
          <a:xfrm rot="16200000">
            <a:off x="5686920" y="2994480"/>
            <a:ext cx="304920" cy="4906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98280 h 4906800"/>
              <a:gd name="textAreaBottom" fmla="*/ 4808520 h 490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4"/>
                  <a:pt x="10800" y="1387"/>
                </a:cubicBezTo>
                <a:lnTo>
                  <a:pt x="10800" y="9413"/>
                </a:lnTo>
                <a:cubicBezTo>
                  <a:pt x="10800" y="10107"/>
                  <a:pt x="5400" y="10800"/>
                  <a:pt x="0" y="10800"/>
                </a:cubicBezTo>
                <a:cubicBezTo>
                  <a:pt x="5400" y="10800"/>
                  <a:pt x="10800" y="11494"/>
                  <a:pt x="10800" y="12187"/>
                </a:cubicBezTo>
                <a:lnTo>
                  <a:pt x="10800" y="20213"/>
                </a:lnTo>
                <a:cubicBezTo>
                  <a:pt x="10800" y="209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4554360" y="550872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op over current s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eft Brace 11"/>
          <p:cNvSpPr/>
          <p:nvPr/>
        </p:nvSpPr>
        <p:spPr>
          <a:xfrm rot="16200000">
            <a:off x="5180760" y="3045600"/>
            <a:ext cx="304560" cy="5919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8280 h 5919480"/>
              <a:gd name="textAreaBottom" fmla="*/ 5821200 h 591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5"/>
                  <a:pt x="10800" y="1149"/>
                </a:cubicBezTo>
                <a:lnTo>
                  <a:pt x="10800" y="9651"/>
                </a:lnTo>
                <a:cubicBezTo>
                  <a:pt x="10800" y="10226"/>
                  <a:pt x="5400" y="10800"/>
                  <a:pt x="0" y="10800"/>
                </a:cubicBezTo>
                <a:cubicBezTo>
                  <a:pt x="5400" y="10800"/>
                  <a:pt x="10800" y="11375"/>
                  <a:pt x="10800" y="11949"/>
                </a:cubicBezTo>
                <a:lnTo>
                  <a:pt x="10800" y="20451"/>
                </a:lnTo>
                <a:cubicBezTo>
                  <a:pt x="10800" y="2102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3811680" y="608004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op ov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evious s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latex-image-1.pdf"/>
          <p:cNvPicPr/>
          <p:nvPr/>
        </p:nvPicPr>
        <p:blipFill>
          <a:blip r:embed="rId3"/>
          <a:stretch/>
        </p:blipFill>
        <p:spPr>
          <a:xfrm>
            <a:off x="5573880" y="3027240"/>
            <a:ext cx="685800" cy="241560"/>
          </a:xfrm>
          <a:prstGeom prst="rect">
            <a:avLst/>
          </a:prstGeom>
          <a:ln w="0">
            <a:noFill/>
          </a:ln>
        </p:spPr>
      </p:pic>
      <p:sp>
        <p:nvSpPr>
          <p:cNvPr id="226" name="Left Brace 14"/>
          <p:cNvSpPr/>
          <p:nvPr/>
        </p:nvSpPr>
        <p:spPr>
          <a:xfrm rot="16200000">
            <a:off x="5786280" y="1364760"/>
            <a:ext cx="304920" cy="303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98280 h 3032280"/>
              <a:gd name="textAreaBottom" fmla="*/ 2934000 h 303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2"/>
                  <a:pt x="10800" y="2244"/>
                </a:cubicBezTo>
                <a:lnTo>
                  <a:pt x="10800" y="8556"/>
                </a:lnTo>
                <a:cubicBezTo>
                  <a:pt x="10800" y="9678"/>
                  <a:pt x="5400" y="10800"/>
                  <a:pt x="0" y="10800"/>
                </a:cubicBezTo>
                <a:cubicBezTo>
                  <a:pt x="5400" y="10800"/>
                  <a:pt x="10800" y="11922"/>
                  <a:pt x="10800" y="13044"/>
                </a:cubicBezTo>
                <a:lnTo>
                  <a:pt x="10800" y="19356"/>
                </a:lnTo>
                <a:cubicBezTo>
                  <a:pt x="10800" y="2047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Sampling Dynamics on Curve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7324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approximate this energy prior with a Mixture of SADs (MSA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SAD can be computed more efficiently with a precomputed histogram image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latex-image-17.pdf"/>
          <p:cNvPicPr/>
          <p:nvPr/>
        </p:nvPicPr>
        <p:blipFill>
          <a:blip r:embed="rId1"/>
          <a:stretch/>
        </p:blipFill>
        <p:spPr>
          <a:xfrm>
            <a:off x="1825560" y="1522440"/>
            <a:ext cx="5270400" cy="863640"/>
          </a:xfrm>
          <a:prstGeom prst="rect">
            <a:avLst/>
          </a:prstGeom>
          <a:ln w="0">
            <a:noFill/>
          </a:ln>
        </p:spPr>
      </p:pic>
      <p:sp>
        <p:nvSpPr>
          <p:cNvPr id="230" name="Left Brace 6"/>
          <p:cNvSpPr/>
          <p:nvPr/>
        </p:nvSpPr>
        <p:spPr>
          <a:xfrm rot="16200000">
            <a:off x="5751360" y="1298520"/>
            <a:ext cx="304560" cy="2384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8280 h 2384280"/>
              <a:gd name="textAreaBottom" fmla="*/ 2286000 h 23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27"/>
                  <a:pt x="10800" y="2854"/>
                </a:cubicBezTo>
                <a:lnTo>
                  <a:pt x="10800" y="7946"/>
                </a:lnTo>
                <a:cubicBezTo>
                  <a:pt x="10800" y="9373"/>
                  <a:pt x="5400" y="10800"/>
                  <a:pt x="0" y="10800"/>
                </a:cubicBezTo>
                <a:cubicBezTo>
                  <a:pt x="5400" y="10800"/>
                  <a:pt x="10800" y="12227"/>
                  <a:pt x="10800" y="13654"/>
                </a:cubicBezTo>
                <a:lnTo>
                  <a:pt x="10800" y="18746"/>
                </a:lnTo>
                <a:cubicBezTo>
                  <a:pt x="10800" y="2017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7" descr="latex-image-1.pdf"/>
          <p:cNvPicPr/>
          <p:nvPr/>
        </p:nvPicPr>
        <p:blipFill>
          <a:blip r:embed="rId2"/>
          <a:stretch/>
        </p:blipFill>
        <p:spPr>
          <a:xfrm>
            <a:off x="5424480" y="2620800"/>
            <a:ext cx="939960" cy="241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latex-image-18.pdf"/>
          <p:cNvPicPr/>
          <p:nvPr/>
        </p:nvPicPr>
        <p:blipFill>
          <a:blip r:embed="rId3"/>
          <a:stretch/>
        </p:blipFill>
        <p:spPr>
          <a:xfrm>
            <a:off x="946080" y="3784680"/>
            <a:ext cx="7531200" cy="2959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latex-image-1.pdf"/>
          <p:cNvPicPr/>
          <p:nvPr/>
        </p:nvPicPr>
        <p:blipFill>
          <a:blip r:embed="rId4"/>
          <a:stretch/>
        </p:blipFill>
        <p:spPr>
          <a:xfrm>
            <a:off x="2971800" y="3387600"/>
            <a:ext cx="1778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5373720" y="3627360"/>
            <a:ext cx="6411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Simple Feature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29000" y="3224160"/>
          <a:ext cx="1815840" cy="1435320"/>
        </p:xfrm>
        <a:graphic>
          <a:graphicData uri="http://schemas.openxmlformats.org/drawingml/2006/table">
            <a:tbl>
              <a:tblPr/>
              <a:tblGrid>
                <a:gridCol w="604800"/>
                <a:gridCol w="606240"/>
                <a:gridCol w="604800"/>
              </a:tblGrid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7" name="Picture 4" descr="circular_000240.png"/>
          <p:cNvPicPr/>
          <p:nvPr/>
        </p:nvPicPr>
        <p:blipFill>
          <a:blip r:embed="rId1"/>
          <a:stretch/>
        </p:blipFill>
        <p:spPr>
          <a:xfrm>
            <a:off x="7164360" y="1371600"/>
            <a:ext cx="1631880" cy="165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ircular_000485.png"/>
          <p:cNvPicPr/>
          <p:nvPr/>
        </p:nvPicPr>
        <p:blipFill>
          <a:blip r:embed="rId2"/>
          <a:stretch/>
        </p:blipFill>
        <p:spPr>
          <a:xfrm>
            <a:off x="7164360" y="3144960"/>
            <a:ext cx="1631880" cy="1655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ircular_000565.png"/>
          <p:cNvPicPr/>
          <p:nvPr/>
        </p:nvPicPr>
        <p:blipFill>
          <a:blip r:embed="rId3"/>
          <a:stretch/>
        </p:blipFill>
        <p:spPr>
          <a:xfrm>
            <a:off x="7164360" y="4919760"/>
            <a:ext cx="1631880" cy="1655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seismic_000240.png"/>
          <p:cNvPicPr/>
          <p:nvPr/>
        </p:nvPicPr>
        <p:blipFill>
          <a:blip r:embed="rId4"/>
          <a:stretch/>
        </p:blipFill>
        <p:spPr>
          <a:xfrm>
            <a:off x="243000" y="1371600"/>
            <a:ext cx="1630080" cy="165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seismic_000485.png"/>
          <p:cNvPicPr/>
          <p:nvPr/>
        </p:nvPicPr>
        <p:blipFill>
          <a:blip r:embed="rId5"/>
          <a:stretch/>
        </p:blipFill>
        <p:spPr>
          <a:xfrm>
            <a:off x="243000" y="3144960"/>
            <a:ext cx="1630080" cy="165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seismic_000565.png"/>
          <p:cNvPicPr/>
          <p:nvPr/>
        </p:nvPicPr>
        <p:blipFill>
          <a:blip r:embed="rId6"/>
          <a:stretch/>
        </p:blipFill>
        <p:spPr>
          <a:xfrm>
            <a:off x="243000" y="4919760"/>
            <a:ext cx="1630080" cy="1655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1"/>
          <p:cNvSpPr/>
          <p:nvPr/>
        </p:nvSpPr>
        <p:spPr>
          <a:xfrm>
            <a:off x="1967760" y="345600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5299560" y="3508200"/>
            <a:ext cx="811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|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6219000" y="323388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130320" y="1290600"/>
            <a:ext cx="1874520" cy="53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7053120" y="1290600"/>
            <a:ext cx="1873440" cy="53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Straight Arrow Connector 18"/>
          <p:cNvCxnSpPr/>
          <p:nvPr/>
        </p:nvCxnSpPr>
        <p:spPr>
          <a:xfrm>
            <a:off x="4510080" y="3979440"/>
            <a:ext cx="689760" cy="2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Comparison without Dynamics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250" name="Macintosh HD:Users:jchang7:Desktop:presentations:2010-04-21 Shell:seismic.mp4" descr=""/>
          <p:cNvPicPr/>
          <p:nvPr/>
        </p:nvPicPr>
        <p:blipFill>
          <a:blip r:embed="rId1"/>
          <a:stretch/>
        </p:blipFill>
        <p:spPr>
          <a:xfrm>
            <a:off x="284040" y="1434960"/>
            <a:ext cx="8604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Sampling Motivation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gmentation is usually formulated with energy maxim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onentiated Mutual Information under some prior is equivalent to the posterio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y would we want to sample from posterior of curves               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robust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lculating marginal prob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ability that a pixel is on the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ability that a pixel is within a certain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ability that a pixel is in the same region as another pix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6" descr="latex-image-19.pdf"/>
          <p:cNvPicPr/>
          <p:nvPr/>
        </p:nvPicPr>
        <p:blipFill>
          <a:blip r:embed="rId1"/>
          <a:stretch/>
        </p:blipFill>
        <p:spPr>
          <a:xfrm>
            <a:off x="2630520" y="2354400"/>
            <a:ext cx="389880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latex-image-1.pdf"/>
          <p:cNvPicPr/>
          <p:nvPr/>
        </p:nvPicPr>
        <p:blipFill>
          <a:blip r:embed="rId2"/>
          <a:stretch/>
        </p:blipFill>
        <p:spPr>
          <a:xfrm>
            <a:off x="7327800" y="3224160"/>
            <a:ext cx="82548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Metropolis-Hastings Sampling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pace of segmentations is infin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Metropolis-Hastings MCMC to s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ple from a proposal distrib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cept the proposal with prob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ples will eventually converge if the Markov chain is ergodic because the Hastings ratio ensures detailed balan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latex-image-2.pdf"/>
          <p:cNvPicPr/>
          <p:nvPr/>
        </p:nvPicPr>
        <p:blipFill>
          <a:blip r:embed="rId1"/>
          <a:stretch/>
        </p:blipFill>
        <p:spPr>
          <a:xfrm>
            <a:off x="3813120" y="268596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latex-image-3.pdf"/>
          <p:cNvPicPr/>
          <p:nvPr/>
        </p:nvPicPr>
        <p:blipFill>
          <a:blip r:embed="rId2"/>
          <a:stretch/>
        </p:blipFill>
        <p:spPr>
          <a:xfrm>
            <a:off x="2340000" y="4025880"/>
            <a:ext cx="439416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Previous Sampling Methods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1] pioneered the sampling of segmentation space but required expensive alternating between an implicit and explicit re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2] extended the work by staying in the implicit domain and perturbing the level set function such that the signed distance function was preser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th [1] and [2] are limited to a single simply connected shape, and do not allow for topological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57610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1]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n, A.C., J. W. Fisher III, W. M. Wells, J. J. Levitt, A. S. Willsky. MCMC curve sampling for imag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gmentation. In: MICCAI (200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2]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en, S., R. J. Radke. Markov chain monte carlo shape sampling using level sets. Second Workshop o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Rigid Shape Analysis and Deformable Image Alignment, in conjunction with ICCV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Good Proposal Distributions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1268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ability of accepting a sample is increased if posterior incre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deoff with biased propos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oposal can be biased to increase the pos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s the forward-backward ratio in the acceptance rat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latex-image-4.pdf"/>
          <p:cNvPicPr/>
          <p:nvPr/>
        </p:nvPicPr>
        <p:blipFill>
          <a:blip r:embed="rId1"/>
          <a:stretch/>
        </p:blipFill>
        <p:spPr>
          <a:xfrm>
            <a:off x="3797280" y="1546200"/>
            <a:ext cx="1219320" cy="77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latex-image-5.pdf"/>
          <p:cNvPicPr/>
          <p:nvPr/>
        </p:nvPicPr>
        <p:blipFill>
          <a:blip r:embed="rId2"/>
          <a:stretch/>
        </p:blipFill>
        <p:spPr>
          <a:xfrm>
            <a:off x="3517920" y="3578400"/>
            <a:ext cx="1714320" cy="77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biased_fwdbkwd.png"/>
          <p:cNvPicPr/>
          <p:nvPr/>
        </p:nvPicPr>
        <p:blipFill>
          <a:blip r:embed="rId3"/>
          <a:stretch/>
        </p:blipFill>
        <p:spPr>
          <a:xfrm>
            <a:off x="2274840" y="4667400"/>
            <a:ext cx="4329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Our Proposal Distribution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o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design a proposal distribution that biases samples towards likely configurations (increasing the likelihood ratio) without decreasing the forward-backward ratio mu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lu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umber of biased random variables mov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many pixel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to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more probab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nfigu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osal perturb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latex-image-6.pdf"/>
          <p:cNvPicPr/>
          <p:nvPr/>
        </p:nvPicPr>
        <p:blipFill>
          <a:blip r:embed="rId1"/>
          <a:stretch/>
        </p:blipFill>
        <p:spPr>
          <a:xfrm>
            <a:off x="3268800" y="3722760"/>
            <a:ext cx="2298600" cy="380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latex-image-7.pdf"/>
          <p:cNvPicPr/>
          <p:nvPr/>
        </p:nvPicPr>
        <p:blipFill>
          <a:blip r:embed="rId2"/>
          <a:stretch/>
        </p:blipFill>
        <p:spPr>
          <a:xfrm>
            <a:off x="3430440" y="4184640"/>
            <a:ext cx="1994040" cy="380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atex-image-8.pdf"/>
          <p:cNvPicPr/>
          <p:nvPr/>
        </p:nvPicPr>
        <p:blipFill>
          <a:blip r:embed="rId3"/>
          <a:stretch/>
        </p:blipFill>
        <p:spPr>
          <a:xfrm>
            <a:off x="1262160" y="4757760"/>
            <a:ext cx="4305240" cy="507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latex-image-9.pdf"/>
          <p:cNvPicPr/>
          <p:nvPr/>
        </p:nvPicPr>
        <p:blipFill>
          <a:blip r:embed="rId4"/>
          <a:stretch/>
        </p:blipFill>
        <p:spPr>
          <a:xfrm>
            <a:off x="6093000" y="4846680"/>
            <a:ext cx="1854000" cy="34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latex-image-10.pdf"/>
          <p:cNvPicPr/>
          <p:nvPr/>
        </p:nvPicPr>
        <p:blipFill>
          <a:blip r:embed="rId5"/>
          <a:stretch/>
        </p:blipFill>
        <p:spPr>
          <a:xfrm>
            <a:off x="2222640" y="5688000"/>
            <a:ext cx="4267080" cy="291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latex-image-11.pdf"/>
          <p:cNvPicPr/>
          <p:nvPr/>
        </p:nvPicPr>
        <p:blipFill>
          <a:blip r:embed="rId6"/>
          <a:stretch/>
        </p:blipFill>
        <p:spPr>
          <a:xfrm>
            <a:off x="1866960" y="6126120"/>
            <a:ext cx="50036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show segmentation results in 3 way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stogram image – A count of times pixels are labeled with the same region across all samp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ability of Boundary image – A normalized count of times pixels are labeled on the ed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gmentation Quantiles – Thresholding the histogram image to provide confidence bounds (e.g. this pixel belongs to the “inside” region 50% of the tim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st Segmentation – The sample path with the highest energy. This is a proxy for what the best optimization technique could achie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Synthetic Results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nthetic example with varying SN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images have high SNR (i.e. are vary separable), sampling makes less of a differ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abc_05_pb.png"/>
          <p:cNvPicPr/>
          <p:nvPr/>
        </p:nvPicPr>
        <p:blipFill>
          <a:blip r:embed="rId1"/>
          <a:stretch/>
        </p:blipFill>
        <p:spPr>
          <a:xfrm>
            <a:off x="1871640" y="3641760"/>
            <a:ext cx="1746360" cy="793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abc_05.png"/>
          <p:cNvPicPr/>
          <p:nvPr/>
        </p:nvPicPr>
        <p:blipFill>
          <a:blip r:embed="rId2"/>
          <a:stretch/>
        </p:blipFill>
        <p:spPr>
          <a:xfrm>
            <a:off x="38160" y="3641760"/>
            <a:ext cx="1746360" cy="793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abc_05_histogram_1.png"/>
          <p:cNvPicPr/>
          <p:nvPr/>
        </p:nvPicPr>
        <p:blipFill>
          <a:blip r:embed="rId3"/>
          <a:stretch/>
        </p:blipFill>
        <p:spPr>
          <a:xfrm>
            <a:off x="3706920" y="3641760"/>
            <a:ext cx="1746000" cy="793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abc_05_border.png"/>
          <p:cNvPicPr/>
          <p:nvPr/>
        </p:nvPicPr>
        <p:blipFill>
          <a:blip r:embed="rId4"/>
          <a:stretch/>
        </p:blipFill>
        <p:spPr>
          <a:xfrm>
            <a:off x="5529240" y="3641760"/>
            <a:ext cx="1746360" cy="79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abc_05_best_borders.png"/>
          <p:cNvPicPr/>
          <p:nvPr/>
        </p:nvPicPr>
        <p:blipFill>
          <a:blip r:embed="rId5"/>
          <a:stretch/>
        </p:blipFill>
        <p:spPr>
          <a:xfrm>
            <a:off x="7364520" y="3641760"/>
            <a:ext cx="1746000" cy="793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156600" y="32716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iginal 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2028600" y="299412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ability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3990240" y="3271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5697360" y="32716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% Quan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7483680" y="299412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9" descr="abc_1_histogram_1.png"/>
          <p:cNvPicPr/>
          <p:nvPr/>
        </p:nvPicPr>
        <p:blipFill>
          <a:blip r:embed="rId6"/>
          <a:stretch/>
        </p:blipFill>
        <p:spPr>
          <a:xfrm>
            <a:off x="3706920" y="4584600"/>
            <a:ext cx="1746000" cy="793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0" descr="abc_1_pb.png"/>
          <p:cNvPicPr/>
          <p:nvPr/>
        </p:nvPicPr>
        <p:blipFill>
          <a:blip r:embed="rId7"/>
          <a:stretch/>
        </p:blipFill>
        <p:spPr>
          <a:xfrm>
            <a:off x="1871640" y="4584600"/>
            <a:ext cx="1746360" cy="793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abc_1.png"/>
          <p:cNvPicPr/>
          <p:nvPr/>
        </p:nvPicPr>
        <p:blipFill>
          <a:blip r:embed="rId8"/>
          <a:stretch/>
        </p:blipFill>
        <p:spPr>
          <a:xfrm>
            <a:off x="38160" y="4584600"/>
            <a:ext cx="1746360" cy="793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abc_1_best_borders.png"/>
          <p:cNvPicPr/>
          <p:nvPr/>
        </p:nvPicPr>
        <p:blipFill>
          <a:blip r:embed="rId9"/>
          <a:stretch/>
        </p:blipFill>
        <p:spPr>
          <a:xfrm>
            <a:off x="7364520" y="4584600"/>
            <a:ext cx="1746000" cy="793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abc_1_border.png"/>
          <p:cNvPicPr/>
          <p:nvPr/>
        </p:nvPicPr>
        <p:blipFill>
          <a:blip r:embed="rId10"/>
          <a:stretch/>
        </p:blipFill>
        <p:spPr>
          <a:xfrm>
            <a:off x="5529240" y="4584600"/>
            <a:ext cx="1746360" cy="793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abc_2.png"/>
          <p:cNvPicPr/>
          <p:nvPr/>
        </p:nvPicPr>
        <p:blipFill>
          <a:blip r:embed="rId11"/>
          <a:stretch/>
        </p:blipFill>
        <p:spPr>
          <a:xfrm>
            <a:off x="38160" y="5511960"/>
            <a:ext cx="1746360" cy="793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" descr="abc_2_pb.png"/>
          <p:cNvPicPr/>
          <p:nvPr/>
        </p:nvPicPr>
        <p:blipFill>
          <a:blip r:embed="rId12"/>
          <a:stretch/>
        </p:blipFill>
        <p:spPr>
          <a:xfrm>
            <a:off x="1871640" y="5511960"/>
            <a:ext cx="1746360" cy="793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6" descr="abc_2_histogram_1.png"/>
          <p:cNvPicPr/>
          <p:nvPr/>
        </p:nvPicPr>
        <p:blipFill>
          <a:blip r:embed="rId13"/>
          <a:stretch/>
        </p:blipFill>
        <p:spPr>
          <a:xfrm>
            <a:off x="3706920" y="5511960"/>
            <a:ext cx="1746000" cy="793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7" descr="abc_2_border.png"/>
          <p:cNvPicPr/>
          <p:nvPr/>
        </p:nvPicPr>
        <p:blipFill>
          <a:blip r:embed="rId14"/>
          <a:stretch/>
        </p:blipFill>
        <p:spPr>
          <a:xfrm>
            <a:off x="5529240" y="5511960"/>
            <a:ext cx="1746360" cy="793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8" descr="abc_2_best_borders.png"/>
          <p:cNvPicPr/>
          <p:nvPr/>
        </p:nvPicPr>
        <p:blipFill>
          <a:blip r:embed="rId15"/>
          <a:stretch/>
        </p:blipFill>
        <p:spPr>
          <a:xfrm>
            <a:off x="7364520" y="5511960"/>
            <a:ext cx="1746000" cy="7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70080" y="28080"/>
            <a:ext cx="77644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Natural Image Results</a:t>
            </a: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83" name="Picture 3" descr="cliff_combined_histogram.png"/>
          <p:cNvPicPr/>
          <p:nvPr/>
        </p:nvPicPr>
        <p:blipFill>
          <a:blip r:embed="rId1"/>
          <a:stretch/>
        </p:blipFill>
        <p:spPr>
          <a:xfrm>
            <a:off x="2602080" y="3530520"/>
            <a:ext cx="2442960" cy="1630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liff_pb.png"/>
          <p:cNvPicPr/>
          <p:nvPr/>
        </p:nvPicPr>
        <p:blipFill>
          <a:blip r:embed="rId2"/>
          <a:stretch/>
        </p:blipFill>
        <p:spPr>
          <a:xfrm>
            <a:off x="5133960" y="3530520"/>
            <a:ext cx="24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liff_prcurve_square.png"/>
          <p:cNvPicPr/>
          <p:nvPr/>
        </p:nvPicPr>
        <p:blipFill>
          <a:blip r:embed="rId3"/>
          <a:stretch/>
        </p:blipFill>
        <p:spPr>
          <a:xfrm>
            <a:off x="7680240" y="364176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cliff.png"/>
          <p:cNvPicPr/>
          <p:nvPr/>
        </p:nvPicPr>
        <p:blipFill>
          <a:blip r:embed="rId4"/>
          <a:stretch/>
        </p:blipFill>
        <p:spPr>
          <a:xfrm>
            <a:off x="47520" y="3530520"/>
            <a:ext cx="2444760" cy="1630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horse_histogram_2.png"/>
          <p:cNvPicPr/>
          <p:nvPr/>
        </p:nvPicPr>
        <p:blipFill>
          <a:blip r:embed="rId5"/>
          <a:stretch/>
        </p:blipFill>
        <p:spPr>
          <a:xfrm>
            <a:off x="2602080" y="1862280"/>
            <a:ext cx="2442960" cy="1631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orse_pb.png"/>
          <p:cNvPicPr/>
          <p:nvPr/>
        </p:nvPicPr>
        <p:blipFill>
          <a:blip r:embed="rId6"/>
          <a:stretch/>
        </p:blipFill>
        <p:spPr>
          <a:xfrm>
            <a:off x="5133960" y="1862280"/>
            <a:ext cx="2443320" cy="1631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horse_prcurve_square.png"/>
          <p:cNvPicPr/>
          <p:nvPr/>
        </p:nvPicPr>
        <p:blipFill>
          <a:blip r:embed="rId7"/>
          <a:stretch/>
        </p:blipFill>
        <p:spPr>
          <a:xfrm>
            <a:off x="7680240" y="1973160"/>
            <a:ext cx="1397160" cy="1397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horse.png"/>
          <p:cNvPicPr/>
          <p:nvPr/>
        </p:nvPicPr>
        <p:blipFill>
          <a:blip r:embed="rId8"/>
          <a:stretch/>
        </p:blipFill>
        <p:spPr>
          <a:xfrm>
            <a:off x="47520" y="1862280"/>
            <a:ext cx="2444760" cy="1631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sail_combined_histogram.png"/>
          <p:cNvPicPr/>
          <p:nvPr/>
        </p:nvPicPr>
        <p:blipFill>
          <a:blip r:embed="rId9"/>
          <a:stretch/>
        </p:blipFill>
        <p:spPr>
          <a:xfrm>
            <a:off x="2602080" y="5195880"/>
            <a:ext cx="2442960" cy="1630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sail_pb.png"/>
          <p:cNvPicPr/>
          <p:nvPr/>
        </p:nvPicPr>
        <p:blipFill>
          <a:blip r:embed="rId10"/>
          <a:stretch/>
        </p:blipFill>
        <p:spPr>
          <a:xfrm>
            <a:off x="5133960" y="5195880"/>
            <a:ext cx="24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sail_prcurve_square.png"/>
          <p:cNvPicPr/>
          <p:nvPr/>
        </p:nvPicPr>
        <p:blipFill>
          <a:blip r:embed="rId11"/>
          <a:stretch/>
        </p:blipFill>
        <p:spPr>
          <a:xfrm>
            <a:off x="7680240" y="5284800"/>
            <a:ext cx="1397160" cy="1397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ail.png"/>
          <p:cNvPicPr/>
          <p:nvPr/>
        </p:nvPicPr>
        <p:blipFill>
          <a:blip r:embed="rId12"/>
          <a:stretch/>
        </p:blipFill>
        <p:spPr>
          <a:xfrm>
            <a:off x="47520" y="5195880"/>
            <a:ext cx="2444760" cy="1630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5"/>
          <p:cNvSpPr/>
          <p:nvPr/>
        </p:nvSpPr>
        <p:spPr>
          <a:xfrm>
            <a:off x="0" y="122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 from the Berkeley Segmentation Dataset. (‘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 on the Precision-Recall curve correspond to the probability of boundary image. ‘+’ on the curve corresponds to the best sample pa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20:26:37Z</dcterms:created>
  <dc:creator>Jason Chang</dc:creator>
  <dc:description/>
  <dc:language>en-US</dc:language>
  <cp:lastModifiedBy>Jason Chang</cp:lastModifiedBy>
  <dcterms:modified xsi:type="dcterms:W3CDTF">2010-04-20T20:33:11Z</dcterms:modified>
  <cp:revision>20</cp:revision>
  <dc:subject/>
  <dc:title>MCMC Sampling with Implicit Shape Representations</dc:title>
</cp:coreProperties>
</file>