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C22-07CB-4493-A8A5-140DDD8B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440-F9B1-4A92-8616-C4A3270F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87D-D0E4-43CC-8152-BDFAF17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D7F-5ECD-498A-AC75-E3232E6E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669-E7BA-45E0-8C9E-E6345D4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C05-DEC2-4E4F-9914-4B386B1D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F60-ADE2-48B6-8E06-6FF47CF1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8A1-9680-4F23-8F35-285F90D4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2C9-DB69-4BBA-ABD3-E532A856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158-E806-444D-A9BF-FD02AC8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291-B7D4-4BBD-BC55-EE32CC3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302-7C45-4C00-BA80-E96406F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8E1-1AEF-4AB6-926F-858ED44C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24080" y="2590920"/>
            <a:ext cx="1219320" cy="838080"/>
            <a:chOff x="3124080" y="2590920"/>
            <a:chExt cx="1219320" cy="838080"/>
          </a:xfrm>
        </p:grpSpPr>
        <p:sp>
          <p:nvSpPr>
            <p:cNvPr id="42" name=""/>
            <p:cNvSpPr/>
            <p:nvPr/>
          </p:nvSpPr>
          <p:spPr>
            <a:xfrm>
              <a:off x="3352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240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0988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00600" y="2590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9800" y="3352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15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124080" y="2590920"/>
            <a:ext cx="1219320" cy="838080"/>
            <a:chOff x="3124080" y="259092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3352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240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215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21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3429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49600" y="3429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6980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800600" y="3429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00600" y="2590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81280" y="3429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3124080" y="2590920"/>
            <a:ext cx="1219320" cy="838080"/>
            <a:chOff x="3124080" y="2590920"/>
            <a:chExt cx="1219320" cy="838080"/>
          </a:xfrm>
        </p:grpSpPr>
        <p:sp>
          <p:nvSpPr>
            <p:cNvPr id="74" name=""/>
            <p:cNvSpPr/>
            <p:nvPr/>
          </p:nvSpPr>
          <p:spPr>
            <a:xfrm>
              <a:off x="3352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240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988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6980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429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3429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81280" y="3429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894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00600" y="2590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124080" y="2590920"/>
            <a:ext cx="1219320" cy="838080"/>
            <a:chOff x="3124080" y="2590920"/>
            <a:chExt cx="1219320" cy="838080"/>
          </a:xfrm>
        </p:grpSpPr>
        <p:sp>
          <p:nvSpPr>
            <p:cNvPr id="90" name=""/>
            <p:cNvSpPr/>
            <p:nvPr/>
          </p:nvSpPr>
          <p:spPr>
            <a:xfrm>
              <a:off x="3352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12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00600" y="2590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9800" y="3352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15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124080" y="2590920"/>
            <a:ext cx="1219320" cy="838080"/>
            <a:chOff x="3124080" y="2590920"/>
            <a:chExt cx="1219320" cy="838080"/>
          </a:xfrm>
        </p:grpSpPr>
        <p:sp>
          <p:nvSpPr>
            <p:cNvPr id="102" name=""/>
            <p:cNvSpPr/>
            <p:nvPr/>
          </p:nvSpPr>
          <p:spPr>
            <a:xfrm>
              <a:off x="3352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240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00600" y="2590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9800" y="3352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15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24080" y="2590920"/>
            <a:ext cx="1219320" cy="838080"/>
            <a:chOff x="3124080" y="2590920"/>
            <a:chExt cx="1219320" cy="838080"/>
          </a:xfrm>
        </p:grpSpPr>
        <p:sp>
          <p:nvSpPr>
            <p:cNvPr id="114" name=""/>
            <p:cNvSpPr/>
            <p:nvPr/>
          </p:nvSpPr>
          <p:spPr>
            <a:xfrm>
              <a:off x="3352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791320" y="28195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2590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019920" y="2590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044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8200" y="3352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590920"/>
            <a:ext cx="1219320" cy="838080"/>
            <a:chOff x="4343400" y="2590920"/>
            <a:chExt cx="1219320" cy="838080"/>
          </a:xfrm>
        </p:grpSpPr>
        <p:sp>
          <p:nvSpPr>
            <p:cNvPr id="126" name=""/>
            <p:cNvSpPr/>
            <p:nvPr/>
          </p:nvSpPr>
          <p:spPr>
            <a:xfrm>
              <a:off x="457200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4340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2590920"/>
              <a:ext cx="45720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29200" y="2819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254480" y="3352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04:07:56Z</dcterms:created>
  <dc:creator>Kristi Hayes</dc:creator>
  <dc:description/>
  <dc:language>en-US</dc:language>
  <cp:lastModifiedBy>Kristi Hayes</cp:lastModifiedBy>
  <cp:lastPrinted>1999-02-26T04:41:08Z</cp:lastPrinted>
  <dcterms:modified xsi:type="dcterms:W3CDTF">1999-03-05T06:24:18Z</dcterms:modified>
  <cp:revision>8</cp:revision>
  <dc:subject/>
  <dc:title>No Slide Title</dc:title>
</cp:coreProperties>
</file>